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F5B-F400-4134-AC5A-B5A8611B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0E6-CE62-4BEE-8033-74CFDD1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82D-5CE7-4256-B837-422843B2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7B3-13B4-4FFB-B213-2ABD4C27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47A-7B1D-440E-BA08-71CB6C8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2025-CF86-4FCC-9C2F-A36BFF02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F457-8E52-433C-9634-ECE8654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730-6147-45B0-A7A4-7C314D0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F05A-DAB7-4E99-A5EB-0C0AC147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0881-E488-4402-86B4-897816C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853A-07A5-414C-B564-29AD94F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DF0-516A-4F66-A865-C43BFA6E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6E8E-7114-4F7B-B8FF-089C5FB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EC15-6613-4675-A7A4-4150501E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3EB-7EF9-4406-B15C-271835E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9AA-5CF8-4243-9B2A-D7E33076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B3B9-863C-4AC4-A7DF-806EDFA4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2BB-313E-4755-AC89-5210FBC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276-7210-4109-A1D1-D962C142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384-9B36-47A7-B52E-754F727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C8E-ED4A-4377-AA95-7E86925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96B-E6DB-4C64-9EC7-40F5EDC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EAE-0ADF-48B4-9095-6D1C349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BC7-9D9D-4D8F-825A-4B926D3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E5A-EBB3-4C07-9AF9-DD586D08C644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D27-4239-4BB2-91D8-243BDB314707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r Kalte Krie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wicklung des Ost-West-Konflik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981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1950-1953 Koreakrieg, Beendigung mit dem status quo an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341360"/>
            <a:ext cx="38163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6./17. Juni 1953 Arbeiterunruhen in der DDR und Ost-Berlin weiten sich zu antikommunistischen Aufständen aus, Niederschlagung durch die sowjetische Besatzungsma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4.5.1955 Gründung des Warschauer Pak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5.2.1956 XX. Parteitag der KPdSU: Beginn der Entstalinis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Juni 1956 Arbeiterunruhen in Pol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3.10.-11.11.1956 ungarischer Aufstand wird durch die Rote Armee niedergeschlag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5.10.1957 Satellit Sputnik = Nachweis  von strategischen Trägersystemen der UdSS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ovember 1958 Berlin-Ultimatu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rühjahr 1961 Beginn des Konflikts zwischen der UdSSR und der VR Chin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3.8.1961 Bau der Berliner Mau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27640" y="1341360"/>
            <a:ext cx="44654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.11.1954 Beginn des Algerien-Krieg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9.5.1955 Aufnahme der BRD in die NAT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Herbst 1955 USA lösen Frankreich als Schutzmacht in Südvietnam ab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9.10.-5.11.1956 Suez-Kri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0.1.1961 John F. Kennedy wird Präsident der US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5.4. 1961 Scheitern der Invasion in Kuba in der Schweinebu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zember 1961 Verstärkung der militärischen Präsenz der USA in Vietna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724280"/>
            <a:ext cx="45720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Okt./Nov. 1962 Kuba-Krise: Versuch des Eindringens in die westliche Interessensphäre durch Bau von Basen für Mittelstreckenraketen auf Kub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öhepunkt des Kalten Krieges durch drohenden Atomkrie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4437000"/>
            <a:ext cx="0" cy="2872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851280" y="5300280"/>
            <a:ext cx="649440" cy="36036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e Berlin-Kris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765000"/>
            <a:ext cx="9144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November 1958 Berlin Ultimatu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iel: Abschluß eines Friedensvertrages mit beiden deutschen Staaten, um die Vier-Mächte-Verpflichtungen zu beend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umal diese nur noch im Vier-Mächte-Status Berlins bestünd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daher Forderung nach Abzug der Westmächte aus Berlin, Errichtung einer selbständigen politischen Einheit Berlin, Übergabe der Souveränitätsrechte an die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2492280"/>
            <a:ext cx="0" cy="2160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70828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unehmende Fluchtbewegung, vor allem von qualifizierten Kräften, aus der DDR über Berli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eeinträchtigung der Leistungsfähigkeit der Wirtschaft und Verschärfung der Mangelwirtschaf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3.8.1961 Bau der Mau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645000"/>
            <a:ext cx="44276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abilisierung des Ostblocks erfordere die Stabilisierung der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rfordere die Abgrenzung Ost-Berlins von West-Berli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rgebnis des 2. Weltkrieg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5229360"/>
            <a:ext cx="0" cy="36036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87700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Arial"/>
              </a:rPr>
              <a:t>Mauerbau als Ausdruck der Anerkennung des status quo in Europ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1640" y="3645000"/>
            <a:ext cx="4932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Aufrechterhaltung des Vier-Mächte-Status von Berlin, d.h. u.a. auch Bewegungsfreiheit der vier Alliierten in ganz Berl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three essentials“ mit dem Geltungsbereich West-Berlin: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Anwesenheit der Alliierten durch Stationierung von Truppe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Freier Zugang von der BRD nach West-Berlin durch das Gebiet der DDR (Transitrouten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Erhaltung der Lebensfähigkeit West-Berlins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Schutzgarantie der NATO für West-Berli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00720" y="6021360"/>
            <a:ext cx="0" cy="21600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6165720"/>
            <a:ext cx="50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Stillschweigende Anerkennung Ost-Berlins als faktischer Teil der DDR = Abgrenzung der Interessensphären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eue Konzeptionen für das Ost-West-Verhältni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125360"/>
            <a:ext cx="45007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Konzeption der „friedlichen Koexistenz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olitik des friedlichen Nebeneinanders von Staaten unterschiedlicher Gesellschaftsordn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rundlagen: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leichberechtigung der Staa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chtung der Souveränität und der territorialen Integritä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58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ichteinmischung in die inneren Angelegenhei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n Stelle militärischer Auseinandersetzungen trete der ökonomische Wettbewerb, der notwendigerweise mit dem Sieg des Sozialismus end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pezifische Form des Klassenkampfes unter den Bedingungen des Atomzeitalter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Ideologie weder Gegenstand der friedlichen Koexistenz noch Gegenstand der Auseinandersetz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1125360"/>
            <a:ext cx="47880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Konzeption des „geopolitischen Realismus“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ufgabe des globalen antisowjetischen Kurses zugunsten der Führungsrolle der USA im westlichen Block und dessen Stabilis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ntspannung des rivalisierenden Verhältniss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Hervorhebung praktischer Kooperationsmöglichkeiten bei Bewußtsein der unterschiedlichen ideologischen Position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Gemeinsames Interesse an der Vermeidung eines Atomkrieges als Grundlage konkreter Schrit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4149720"/>
            <a:ext cx="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4724280"/>
            <a:ext cx="421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Arial"/>
              </a:rPr>
              <a:t>Faktische Anerkennung des territorialen status quo in Europa und insbesondere  in Deutschl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58c"/>
                </a:solidFill>
                <a:latin typeface="Arial"/>
              </a:rPr>
              <a:t>Voraussetzungen für Entspannungspoliti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spannung im Ost-West-Konflik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92280"/>
            <a:ext cx="914400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usgangslage: atomares Patt und overkill-Kapazitä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bgrenzung der Interessensphären auf der nördlichen Welthalbkug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usammenarbeit auf der Basis des status qu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bbau des militärischen Faktors zugunsten des friedlichen Systemwettbewerbs -&gt; ökonomische Entlastung bei verminderten Lasten für Sicherhei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Zusammenarbeit mit dem Ziel der Interessenverflechtung und gegenseitigen Abhängigkei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=&gt; Zwei-Säulen-Theorie: Abrüstung und Entspann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84640"/>
            <a:ext cx="914400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68 Kernwaffensperrvertrag (Nichtweiterverbreitung von Atomwaffen), Inkrafttreten 197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69-1979 SALT I und SALT II (Strategic Arms Limitations Talks): Festlegung des quantitativen Nuklearpotentials bei Garantie der Zweitschlagsfähigkei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73 Beginn der MBFR-Verhandlungen (Mutual Balanced Force Reduction): Ziel der Verminderung der konventionellen Rüstung in Mittel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Probleme: Vergleichbarkeit der unterschiedlichen Waffensysteme, unterschiedliche Rüstungsschwerpunkte (offensiv/defensiv), Überprüfbarkeit der Zahlenangaben, Einbeziehung logistischer Probleme, Einbeziehung von Marine- und Luftstreitkräf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75 KSZE-Schlußakte: Unverletzlichkeit der Grenzen, Nichteinmischung in innere Angelegenheiten, Achtung der Menschenrechte und Grundfreiheit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87 INF-Vertrag: vollständiger Abbau der nuklearen Mittelstreckenwaff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88 einseitige Truppenreduzierung der UdSSR um 500 000 Man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91 START-Vertrag: Reduzierung der strategischen Waffen um ein Dritte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00720" y="2708280"/>
            <a:ext cx="0" cy="57636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e deutsche Frage im Kontext des Ost-West-Konflik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26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125360"/>
            <a:ext cx="91440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40458c"/>
                </a:solidFill>
                <a:latin typeface="Arial"/>
              </a:rPr>
              <a:t>USA: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Entspannung fordere realistische Sicht der deutschen Frage: Wiedervereinigung nur auf lange Sicht möglich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Daher Einbindung Deutschlands in den Entspannungsprozeß im Rahmen eines kollektiven Sicherheitssystem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Dabei nötig: Verzicht auf Ostgebiete, Kernwaffenverzicht, Klarheit über militärischen Statu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=&gt; BRD hat nur die Alternative, mitzumachen oder isoliert zu werd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573360"/>
            <a:ext cx="91440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40458c"/>
                </a:solidFill>
                <a:latin typeface="Arial"/>
              </a:rPr>
              <a:t>Leitlinien der Deutschlandpolitik der BRD 1949-1966 (CDU-Koalitionsregierungen):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Alleinvertretungsanspruch: Auffassung, das Deutsche Reich sei 1945 nicht untergegangen; daher Weiterbestehen des deutschen Staatsgebietes in den Grenzen von 1937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„</a:t>
            </a: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Hallstein-Doktrin“: Anerkennung der DDR durch Drittstaaten als unfreundlicher Akt mit der Folge des Entzugs von Wirtschaftshilfe durch die BRD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Wiedervereinigung als Ziel mit Verfassungsrang: Verbot aller Handlungen und Abkommen, die einen Verzicht auf Rechtspositionen bedeuten bzw. die Wiedervereinigung be- oder verhinder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Selbstbestimmungsrecht der Völke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ier-Mächte-Verantwortung für Deutschland als Ganzes (gem. Potsdamer Abkommen: Verantwortung der Alliierten für den Abschluß eines Friedensvertrages und die Herstellung der deutschen Einhei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ier-Mächte-Status von Berlin (gem. Potsdamer Abkommen): keine Anerkennung der Einbeziehung Ost-Berlins in das Gebiet der DD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84720" y="2997360"/>
            <a:ext cx="0" cy="57600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Grundlagen der Ostpolitik der sozialliberalen Koalition: Das „Bahr-Konzept“ (1963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Erforderlich sei Übereinstimmung der Politik der BRD mit der Entspannungspolitik der US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daher müsse in der deutschen Frage ein Abschied von Maximalpositionen zugunsten der „Politik der kleinen Schritte“ erfolg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iedervereinigung könne nicht durch „Einnahme“ der DDR erfolgen, da dies einen Verstoß gegen die Entspannung auf der Grundlage des status quo bedeu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der Beginn eines in ferner Zukunft in Wiedervereinigung mündenden Prozesses müsse an Vorhandenes anknüpfen und dabei stets unterhalb der Anerkennungsschwelle bleib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Herbeizuführen seien menschliche Erleichterungen durch Intensivierung des Handels und Verbesserung der materiellen Lage in der DD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dabei seien kalkulierbare Verbesserungen für den Wandeln in den deutsch-deutschen Beziehungen zu schaff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as zunächst zwar eine Stabilisierung der DDR bedeute, da ihr die Angst vor einer revolutionären Umgestaltung des Systems genommen werden müss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aber eine Risikobegrenzung bedeute, die den Wandel erst möglich mach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5734080"/>
            <a:ext cx="0" cy="358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616572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ndel durch Annäherung“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stpolitik der sozialliberalen Koalition ab 1969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268280"/>
            <a:ext cx="9144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Ausgangspunkt der Ostpolitik: Beharren auf dem Grundsatz des Selbstbestimmungsrechts der Völker im Rahmen einer europäischen Friedensordnun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Praktische Politik müsse einen Beitrag zur Entspannungspolitik leist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Einheit der Nation können nur durch den Weg von einem geregelten Nebeneinander zu einem Miteinander gewahrt werd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Konkret solle durch Verhandlungen auf Regierungsebene versucht werden, das Verhältnis beider deutscher Staaten zu entkrampf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Ziel sei nicht die völkerrechtliche Anerkennung der DDR,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Sondern Herstellung besonderer Beziehun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Bereitschaft zu Gewaltverzichtsabkommen auf der Grundlage des status qu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</a:rPr>
              <a:t>Junktim zwischen Berlin-Status und deutsch-deutschem Dialog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Hinwendung zu einer pragmatischen Politik ohne Beharren auf Durchsetzung nicht realisierbarer Rechtsstandpunkte bei Offenhalten der deutschen Frag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5373720"/>
            <a:ext cx="0" cy="57636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msetzung der Ostpolitik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36640"/>
            <a:ext cx="914400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12.8.1970 Moskauer Vertrag + Brief zur deutschen Einheit: Gewaltverzicht, Anerkennung der gegenwärtigen Grenzen und der territorialen Integrität der Staaten, Wiedervereinigung mit friedlichen Mitteln bleibt off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7.12.1970 Warschauer Vertrag + Brief zur deutschen Einhei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3.6.1971 Vier-Mächte-Abkommen über Berlin: Verzicht der UdSSR, Berlin als Instrument der Krisenerzeugung zu nutzen; Anerkennung der Bindungen Berlins an die BRD, Bestätigung des Vier-Mächte-Status von Berl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26.5.1972 Verkehrsvertrag zwischen BRD und DD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21.12.1972 Vertrag über die Grundlagen der Beziehungen zwischen der BRD und der DDR (Grundlagenvertrag): 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Gutnachbarliche Beziehungen auf der Grundlage der Gleichberechtigung und der Charta der UNO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erzicht auf gewaltsame Grenzveränderung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Beendigung des Alleinvertretungsanspruchs (-&gt; internationale Anerkennung der DDR möglich)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Verpflichtung, zu Entspannung und Abrüstung beizutrag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Anerkennung der beiderseitigen Souveränitä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40458c"/>
                </a:solidFill>
                <a:latin typeface="Arial"/>
              </a:rPr>
              <a:t>Normalisierung der Beziehungen auf humanitärem Sektor, Wirtschaft, Wissenschaft, Technik und Verkeh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516640"/>
            <a:ext cx="9144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Anerkennung der Realität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Menschliche Erleichterunge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Absicherung West-Berlin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Bereinigung des Verhältnisses zu den osteuropäischen Nachbar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Arial"/>
              </a:rPr>
              <a:t>Rückgewinnung der politischen Handlungsfreiheit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erestroik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052640"/>
            <a:ext cx="914400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rundkonzeption des „Europäischen Hauses“: Mitverantwortung für ein multilaterales Europa ohne Teilung und bei Tolerierung kapitalistischer Syste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wei deutsche Staaten als gleichberechtigte „Wohnungsinhaber“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Innerdeutsche Grenze als historisches Faktu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uffassung der BRD von der offenen deutschen Frage sei unrealistis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eschichte schließe jedoch Veränderungen im Laufe der Zeit nicht au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ezogen auf deutsche Frage: wenngleich nicht aktuell, so doch keine Festschreibung einer ewigen Teil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78936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otwendigkeit von Reformen in der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ei gleichzeitiger Nichteinmischung der sowjetischen Streitkräfte in Deutschlan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08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usgangspunkt für Veränderungen der internationalen Lage und der Lage in Deutschla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3141720"/>
            <a:ext cx="0" cy="5032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4437000"/>
            <a:ext cx="0" cy="64764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stehung: Deutschlandproblem (1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981000"/>
            <a:ext cx="6626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ugust 1945: Potsdamer Abkomm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tändige Konferenz der Außenministe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lliierter Kontrollrat für Beschlüsse ganz Deutschland betreffend (Einstimmigkeit erforderlich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ier-Mächte-Status von Berlin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213000"/>
            <a:ext cx="43923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USA und GB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ntnazifiz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Umerzieh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mokratischer Aufba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zentralisierung der Wirtschaft (Entflechtung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3141720"/>
            <a:ext cx="4140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owjetunio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ozialistische Umgestaltung dur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ntnazifizier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Boden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Industrie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entralisierung der Wirtschaft und der Verwalt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wangsvereinigung von SPD und KPD zur SE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609300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Unterschiedliche Entwicklung in den Besatzungszonen in Abhängigkeit von der ideologischen Ausrichtung der jeweiligen Siegerma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5373720"/>
            <a:ext cx="1800360" cy="647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79640" y="5589720"/>
            <a:ext cx="1800360" cy="503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tstehung: Deutschlandproblem (2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341360"/>
            <a:ext cx="320364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owjetunio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Vorrangig Verwendung der Reparationen zum Ausgleich von Zerstörungen in der S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azu auch Entnahmen aus der laufenden Produkt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eine materielle Unterstützung der eigenen 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ichteinhaltung der Verpflichtung zu Lebensmittellieferungen an die Westzon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1341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413000"/>
            <a:ext cx="29509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USA und GB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Demontagen einschl. der Lieferungen an die SU gem. Potsdamer Abkomm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instellung der Entnahmen aus der laufenden Produktion und materielle Hilfe für die eigenen Zonen -&gt; Bi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eine Internationalisierung des Ruhrgebie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eine Anerkennung der Endgültigkeit der Oder-Neiße-Lini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1413000"/>
            <a:ext cx="28432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Frankreich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Bestehen auf Dezentralisierung der politischen Struktur -&gt; natürliches dismember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Internationalisierung des Ruhrgebie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rrichtung eines Rheinstaates als Puffer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nerkennung der Oder-Neiße-Lini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093000"/>
            <a:ext cx="820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Funktionsunfähigkeit des Alliierten Kontrollrates: keine Beschlüsse für Deutschland als Ganzes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084640"/>
            <a:ext cx="594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icherheitsinteresse der S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onkrete und ideologische Differenz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4941720"/>
            <a:ext cx="27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icherheitsinteres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Obstruktionspolitik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4508640"/>
            <a:ext cx="1079640" cy="5047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08360" y="4797360"/>
            <a:ext cx="1008000" cy="2160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4508640"/>
            <a:ext cx="0" cy="433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5877000"/>
            <a:ext cx="1729080" cy="2160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508360" y="5877000"/>
            <a:ext cx="1942920" cy="21600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ntstehung: internationale La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13000"/>
            <a:ext cx="35290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Sowjetunio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rgebnis des Zweiten Weltkrieges: SU als gleichberechtigte Großmach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Sowjetisierung Osteuropas: Errichtung eines Gürtels von Satellitenstaaten westlich der UdSSR bis zur SBZ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Versuch der Einflußnahme auf Griechenland und die Türkei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Intensivierung des Einflusses auf China und Nordkore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4797360"/>
            <a:ext cx="324144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wei-Lager-Theorie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ufstieg der Sowjetunion zur Weltmacht und zur Führerin des kommunistischen Block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1484280"/>
            <a:ext cx="428472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USA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ennan (1945): Eindämmung der Expansion der Sowjetun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Truman (1947): dauerhaftes Engagement der USA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Marshall (1947): ERP-Plan als ökonomische Antwort auf ideologische Offensive der Sowjetunio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365720"/>
            <a:ext cx="4032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Containment-Politik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ufrechterhaltung des status quo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Eindämmung des Kommunismus durch sicherheitspolitische, politische und ökonomische Zusammenarbeit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4437000"/>
            <a:ext cx="0" cy="3603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3860640"/>
            <a:ext cx="0" cy="505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630864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49: Gründung der NATO (North Atlantic Treaty Organization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6021360"/>
            <a:ext cx="0" cy="287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445000"/>
            <a:ext cx="1008000" cy="0"/>
          </a:xfrm>
          <a:prstGeom prst="line">
            <a:avLst/>
          </a:prstGeom>
          <a:ln w="92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uswirkungen des Kalten Krieges auf Deutschlan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1700280"/>
            <a:ext cx="266400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BZ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Juli 1947: Absage an ERP-Pla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3.6.1948: Währungs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5.5.1949: Wahl des III. Volkskongresses durch Einheitslis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7.10.1949: Proklamation der DD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1773360"/>
            <a:ext cx="25192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Febr./März 1948: Londoner 6-Mächte-Konferenz beschließt Gründung eines westdeutschen Staat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.3.1948: UdSSR verläßt den Alliierten Kontrollra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23.6.1948: Beginn der Berlin-Blockad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Nov./Dez. 1948: Spaltung Berlins (2 Währungen, 2 Stadtregierungen)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56360" y="1700280"/>
            <a:ext cx="29876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Westzone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47 Biz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948: Aufgabe der frz. Obstruktionspolitik aufgrund des ERP-Plan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20.6.1948: Währungsrefor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.7.1948: Frankfurter Dokumen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1.9.1948: Parlamentarischer Rat (gewählt durch Länderparlamente), Ausarbeitung des G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April 1949: Besatzungsstatu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23.5.1949: Verkündung des GG, Gründung der BR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623736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Teilung Deutschlands und Aufwertung der Deutschlandfrage zu einem zentralen Problem der Weltpolitik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5950080"/>
            <a:ext cx="1873440" cy="3585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5877000"/>
            <a:ext cx="0" cy="431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5950080"/>
            <a:ext cx="2160720" cy="3585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ßenpolitik“ der B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iedervereinigung Deutschland als Staatsziel (Präambel des GG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estorientierung der BRD verschaffe sicherheitspolitische Garanti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estintegration mache BRD zu verläßlichem und berechenbaren Partner der Westmäch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verpflichte“ die Westmächte auf Ziel der Wiedervereinigu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mache Deutschland zu Subjekt des Handelns und beende seine Rolle als Objekt anderer Mäch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Politik der Stärke“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Westliche Solidarität fördere die Verhandlungsbereitschaft der Sowjetunion und führe dadurch die Wiedervereinigung herb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6237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8.4.1951: Gründung der Montanunion (EGKS = Europäische Gemeinschaft für Kohle und Stahl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867280"/>
            <a:ext cx="0" cy="36036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84720" y="1915920"/>
            <a:ext cx="0" cy="649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56000" y="4149720"/>
            <a:ext cx="0" cy="86364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icherheitspolitik und Westintegration der BR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341360"/>
            <a:ext cx="38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tomare Überlegenheit der USA (A- und H-Bombe + Trägersyste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341360"/>
            <a:ext cx="421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-Bombe ohne Trägersystem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onventionelle Überlegenheit der SU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1628640"/>
            <a:ext cx="720720" cy="0"/>
          </a:xfrm>
          <a:prstGeom prst="line">
            <a:avLst/>
          </a:prstGeom>
          <a:ln w="2232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492280"/>
            <a:ext cx="385128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tomare Macht der USA als Schutzschild für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u ergänzen durch europäische Armee unter Beteiligung der US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iederbewaffnung der BR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Abschreckung durch Erzeugung eines Risiko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989000"/>
            <a:ext cx="0" cy="503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79640" y="4221000"/>
            <a:ext cx="69134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ept. 1950: Beginn der Verhandlungen über eine westeuropäische Arme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6./27.5.1952 EVG Vertrag + Deutschlandvertrag (Souveränität der BRD mit alliierten Vorbehaltsrechten) als Junkti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31.8.1954 Ablehnung des EVG-Vertrages durch das frz. Parlament = Scheitern des gesamten Vertragswerk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3.10.1954 Pariser Verträge: Deutschlandvertrag, WEU, Aufhebung des Besatzungsstatuts, Beitritt der BRD zur NAT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5.5.1955 Inkrafttreten der Pariser Verträg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328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43640" y="3500280"/>
            <a:ext cx="0" cy="649440"/>
          </a:xfrm>
          <a:prstGeom prst="line">
            <a:avLst/>
          </a:prstGeom>
          <a:ln w="255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Die Stalin-Note 195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97000"/>
            <a:ext cx="396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ngebote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iedervereinigung Deutschland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bzug aller Besatzungstrupp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emokratische Rech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ationale Streitkräft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ufnahme in die UN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eine wirtschaftlichen Beschränkung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1268280"/>
            <a:ext cx="3456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Forderungen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ilitärische Neutralitä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nerkennung der Oder-Neiße-Grenz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7640" y="2637000"/>
            <a:ext cx="0" cy="10080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3573360"/>
            <a:ext cx="36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USA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Vorbedingung für Wiedervereinigung: freie Wahl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Gesamtdeutsche Regierung müsse über Bündniszugehörigkeit entscheid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3645000"/>
            <a:ext cx="442764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0458c"/>
                </a:solidFill>
                <a:latin typeface="Arial"/>
              </a:rPr>
              <a:t>England: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Sicherheitsinteresse der Sowjetunion werde zu Bündnis mit Deutschland führen oder Dtld. Zur Westexpansion veranlass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Wiedervereinigtes Deutschland könne die Westmächte mir der russischen Option erpress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5445000"/>
            <a:ext cx="2016360" cy="289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788000" y="5445000"/>
            <a:ext cx="1800000" cy="289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5877000"/>
            <a:ext cx="7993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Bevorzugung der Beibehaltung des status quo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Vorrang der Einbeziehung Deutschlands in die containment-Politik: BRD als Teil des westlichen Block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Roll-Back-Politi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36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20.1.1953 Eisenhower wird Präsident der USA, Außenminister wird John Foster Dull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907920"/>
            <a:ext cx="47163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5.3.1953 Tod Stalin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Nachfolge zunächst kollektive Führung: Malenkow, Molotow, Bulganin, Chruschtschow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Arial"/>
              </a:rPr>
              <a:t>Konsolidierung nach Führungsstreitigkeiten  -&gt; September Beginn der Ära Chruschtschow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2349360"/>
            <a:ext cx="0" cy="36036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78136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Nachgiebigkeit (Tauwetter) bei gleichzeitiger Verhärtung der Politik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1484280"/>
            <a:ext cx="0" cy="165564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13000"/>
            <a:ext cx="45007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Kommunismus bedeute an sich Bedrohung der USA und der freien Wel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Daher nötig: Zurückdrängen des Kommunismus unterhalb der Kriegsschwelle durch Stärkung aller Befreiungsbewegungen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4581360"/>
            <a:ext cx="0" cy="28764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013360"/>
            <a:ext cx="43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oll-back: Ziel der Revision der Ergebnisse des 2. Weltkrieg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3357720"/>
            <a:ext cx="0" cy="21564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3280" y="3645000"/>
            <a:ext cx="4500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Zwei-Staaten-Theori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Wiedervereinigung sei Sache der Deutschen selbst als Ergebnis einer langfristigen Entwicklung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Erforderlich sei Einbindung beider deutschen Staaten in von den Großmächten geschaffenes kollektives Sicherheitssystem in Europ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6360" y="5877000"/>
            <a:ext cx="44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Vorrang sicherheitspolitischer Fragen vor dem deutschen Problem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00720" y="5516640"/>
            <a:ext cx="0" cy="216000"/>
          </a:xfrm>
          <a:prstGeom prst="line">
            <a:avLst/>
          </a:prstGeom>
          <a:ln w="63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02136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bwertung der deutschen Frage durch Vorrang weltweiter Ost-West-Problematik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566100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211640" y="6237360"/>
            <a:ext cx="504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8:07:56Z</dcterms:created>
  <dc:creator> </dc:creator>
  <dc:description/>
  <dc:language>en-US</dc:language>
  <cp:lastModifiedBy> </cp:lastModifiedBy>
  <dcterms:modified xsi:type="dcterms:W3CDTF">2008-02-11T19:10:36Z</dcterms:modified>
  <cp:revision>41</cp:revision>
  <dc:subject/>
  <dc:title>Folie 1</dc:title>
</cp:coreProperties>
</file>