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607-224D-4029-8FB3-9F738824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D9C-5F63-4C7F-A0D2-0E964E67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9A6-E92C-46D4-9976-EF28634C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4B3-B7FB-4F0F-B4B5-0FA3D5F6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FC93-8114-42AB-B382-744DD1F5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BB12-7116-43B0-9280-8294110B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D70-F46F-4748-BD69-9C7DB66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32B5-C434-4A9D-A9E9-B3A6B0E0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136-AC8B-4457-BF72-D3EE4CB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5A8F-2634-429A-B4A5-88A6330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297C-7B73-4F13-93AE-F702E51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252-AAFE-4323-B40A-48FFD61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588-E08F-40EF-A4A5-E5A7E0F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368-0CA1-455B-98E2-7624C00B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4B3-3792-45DC-A828-4E6B4BA9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90C6-BC9C-40AD-A7FC-70991107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00AF-D55E-41E7-9DFD-DBB571A4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643-0DFF-4663-B6B9-63DD60E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4A4-6CB0-49CD-A212-E2190A4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0B0-FCE5-4A0E-9F73-A8C2326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0DE-1129-47F6-A43C-C143473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CB5-B5EC-49F9-AA70-4D87D1F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FEF-5DB9-467A-8DA6-8946320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DA0-A7E7-4ED3-9262-7978A5A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1BD-459F-4330-9EE8-C29FA2135D4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1A9D-41F8-4E1B-BF1F-23F3BEE3222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eutsche kämpfen für Einheit, Freiheit und soziale Gerechtigke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Festkultur im 19. Jahrhund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lugblätter, Bilderbögen und Karikaturen als politische Bildungsmit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von Ina Gempf und Charlotte Jahn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3429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ilderbog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dfolgen und kurzgereimte Tex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rbauende 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mittlung konservativer, traditioneller W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57800" y="1981080"/>
          <a:ext cx="316224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81080"/>
                    <a:ext cx="3162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arikat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ttel im politischen Kam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ovo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Zens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8320" y="1981080"/>
          <a:ext cx="449568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4956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Quell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uni-erfurt.de/ndl/downloads/Forschungsberich.pdf vom 8.9.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kipedia vom 8.9.2006 (Artikel Völkerschlacht bei Leipzi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mmermann.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1.bpb.de/popup/popup_druckversion.html?guid=06296762463021541821305151125980 vom 8.9.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bikonline.de/histo/flug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burschenschaft.de/studentika/flugblatt_arndt.g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deutscher-michel.tv/info.p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adir.org/nadir/periodika/contraste/images/Zensur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de.wikipedia.org/wiki/Wartburgf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de.wikipedia.org/wiki/Hambacher_F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Wie kam es zum Unmu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efreiungskrie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 Beteiligung von Studenten und Professo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ner Kongr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 kein deutscher Nationalsta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2971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Wie kam es zu den Feste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ündnis der Studenten: Burschenscha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Keine Grundrech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Äußerung der politischen Mein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Organisierte Kundgeb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zene einer Burschenschaftssitz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er Charakter des Fes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schung aus traditionellen Fes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Öffentliche Re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ottesdien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ä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11680" y="2577960"/>
          <a:ext cx="38098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1680" y="2577960"/>
                    <a:ext cx="38098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38862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eispie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rtburgfest (18.10.18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ambacher Fest (27. – 30.5.18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este der Turnerschaften (ab 18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chiller-Jubiläumsfei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as Hambacher Fe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52480" y="2057400"/>
          <a:ext cx="563904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6390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Reaktionen auf die Fes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rlsbader Beschlüs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Verbot der Burschenscha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Überwachung der Universitä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Schließung der Turnplät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Zensur der Pr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Entlassung und Berufsverbot für liberal und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national gesinnte Professo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3048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Flugblä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ttel im politischen Str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gen das herrschende System gerich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Nöte des einfachen Vol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ostenlose Verbrei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81600" y="1981080"/>
            <a:ext cx="334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9:49:38Z</dcterms:created>
  <dc:creator> </dc:creator>
  <dc:description/>
  <dc:language>en-US</dc:language>
  <cp:lastModifiedBy> </cp:lastModifiedBy>
  <dcterms:modified xsi:type="dcterms:W3CDTF">2007-11-11T08:35:36Z</dcterms:modified>
  <cp:revision>3</cp:revision>
  <dc:subject/>
  <dc:title>Deutsche kämpfen für Einheit, Freiheit und soziale Gerechtigkeit</dc:title>
</cp:coreProperties>
</file>