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364-F2AC-470E-95E0-0CF4F72F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1A5-4D20-464F-8BE5-F0D74A0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308-B767-4B17-9460-AE9AF708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ADB-BD1A-478C-8FD0-4A169B11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371F-9B14-4AAB-A039-C2AF9FA4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BAD-348E-4708-8263-59B15349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C246-EAA6-40C6-A645-AD30483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DB0-6CE3-4B85-B1D2-A59664C0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463C-6452-4D15-AC9A-A2A27BD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E0D9-8330-4B05-8D7A-060083F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002-834A-4117-978E-B101393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9BD-34A2-4DA2-8B17-48CE333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308F-6005-402D-832B-E191845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35E8-B860-4464-930D-5B463CF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A3A-1A49-49FC-8C93-F16FB01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E3ED-CA15-4CF9-A460-38536B6D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18E1-355D-4812-A8EF-2C691565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39D-C798-46B7-953D-6FD6CF5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70C-94F4-4CE7-B0F8-C3EFAE2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BC1-A05B-471D-B422-E6F3C7C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CB6-6CB6-467D-9F2A-D9A01F13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ACD-2213-40A6-8937-2A8C4F1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6C2-5EF3-4245-BCCF-56D4FEB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2DF-2550-4941-B6F2-62D3C13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79DB-E3DD-408B-BDAE-81A15876FCE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653D-1777-41C7-BC82-3B183AAB4E5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eutsche kämpfen für Einheit, Freiheit und soziale Gerechtigke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ie Festkultur im 19. Jahrhund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lugblätter, Bilderbögen und Karikaturen als politische Bildungsmit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von Ina Gempf und Charlotte Jahn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3429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ilderbog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ildfolgen und kurzgereimte Tex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rbauende Funk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mittlung konservativer, traditioneller W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57800" y="1981080"/>
          <a:ext cx="316224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81080"/>
                    <a:ext cx="3162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Karikat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ttel im politischen Kam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ovo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Zens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8320" y="1981080"/>
          <a:ext cx="449568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4956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Quell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uni-erfurt.de/ndl/downloads/Forschungsberich.pdf vom 8.9.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kipedia vom 8.9.2006 (Artikel Völkerschlacht bei Leipzi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mmermann.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1.bpb.de/popup/popup_druckversion.html?guid=06296762463021541821305151125980 vom 8.9.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bikonline.de/histo/flug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burschenschaft.de/studentika/flugblatt_arndt.g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deutscher-michel.tv/info.p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adir.org/nadir/periodika/contraste/images/Zensur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de.wikipedia.org/wiki/Wartburgf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de.wikipedia.org/wiki/Hambacher_F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Wie kam es zum Unmu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efreiungskrie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 Beteiligung von Studenten und Professo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ner Kongr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 kein deutscher Nationalsta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2971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Wie kam es zu den Feste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Bündnis der Studenten: Burschenscha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Keine Grundrech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Äußerung der politischen Mein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Organisierte Kundgeb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Szene einer Burschenschaftssitz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er Charakter des Fes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schung aus traditionellen Fes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Öffentliche Re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ottesdien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ä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11680" y="2577960"/>
          <a:ext cx="38098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1680" y="2577960"/>
                    <a:ext cx="38098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38862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Beispie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rtburgfest (18.10.18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ambacher Fest (27. – 30.5.18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este der Turnerschaften (ab 181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chiller-Jubiläumsfei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Das Hambacher Fe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52480" y="2057400"/>
          <a:ext cx="563904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6390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Reaktionen auf die Fes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arlsbader Beschlüs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Verbot der Burschenscha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Überwachung der Universitä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Schließung der Turnplät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Zensur der Pre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Entlassung und Berufsverbot für liberal und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national gesinnte Professo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3048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Flugblä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ittel im politischen Str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gen das herrschende System gerich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Nöte des einfachen Vol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ostenlose Verbrei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81600" y="1981080"/>
            <a:ext cx="334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9:49:38Z</dcterms:created>
  <dc:creator> </dc:creator>
  <dc:description/>
  <dc:language>en-US</dc:language>
  <cp:lastModifiedBy> </cp:lastModifiedBy>
  <dcterms:modified xsi:type="dcterms:W3CDTF">2007-11-11T08:35:36Z</dcterms:modified>
  <cp:revision>3</cp:revision>
  <dc:subject/>
  <dc:title>Deutsche kämpfen für Einheit, Freiheit und soziale Gerechtigkeit</dc:title>
</cp:coreProperties>
</file>