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-360" y="-12978000"/>
            <a:ext cx="360" cy="27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-12841200"/>
            <a:ext cx="1440" cy="270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-12841200"/>
            <a:ext cx="1440" cy="270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-12841200"/>
            <a:ext cx="1440" cy="270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-12841200"/>
            <a:ext cx="1440" cy="270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-12841200"/>
            <a:ext cx="1440" cy="270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-12841200"/>
            <a:ext cx="1440" cy="270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-12841200"/>
            <a:ext cx="1440" cy="270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85B8-6DAE-4C81-BD95-139E633D5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680" y="-54360"/>
            <a:ext cx="753912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5391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680" y="4228920"/>
            <a:ext cx="75391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B082-F370-4473-BAF7-F0E0480A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-54360"/>
            <a:ext cx="753912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788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29840" y="1980720"/>
            <a:ext cx="36788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680" y="4228920"/>
            <a:ext cx="36788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29840" y="4228920"/>
            <a:ext cx="36788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AF22-5C1B-42BE-BF3B-B37D10944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-54360"/>
            <a:ext cx="753912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242748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5840" y="1980720"/>
            <a:ext cx="242748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5000" y="1980720"/>
            <a:ext cx="242748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680" y="4228920"/>
            <a:ext cx="242748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5840" y="4228920"/>
            <a:ext cx="242748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5000" y="4228920"/>
            <a:ext cx="242748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EAE7-8759-47D6-9B71-BA422EC80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C1783-57F9-41B6-8313-6DE424855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-54360"/>
            <a:ext cx="753912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680" y="1980720"/>
            <a:ext cx="753912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7E212-D84E-4F02-AE98-4B3BC687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-54360"/>
            <a:ext cx="753912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5391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64307-F352-44EB-9DEE-1DC4B07A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-54360"/>
            <a:ext cx="753912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788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9840" y="1980720"/>
            <a:ext cx="36788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1412D-9853-426D-B9B4-F52B4405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-54360"/>
            <a:ext cx="753912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CFE3-2D89-44A5-95BE-CE96A109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680" y="-54360"/>
            <a:ext cx="7539120" cy="9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9279-F8F5-412C-8CCD-404B6394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-54360"/>
            <a:ext cx="753912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788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9840" y="1980720"/>
            <a:ext cx="36788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228920"/>
            <a:ext cx="36788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033D-E0E4-4EE3-BA23-988B2035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-54360"/>
            <a:ext cx="753912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680" y="1980720"/>
            <a:ext cx="753912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98FF-AA0F-4E6E-A588-B1D28C63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-54360"/>
            <a:ext cx="753912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788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9840" y="1980720"/>
            <a:ext cx="36788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29840" y="4228920"/>
            <a:ext cx="36788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E4FD-17C1-492F-8176-011155DA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-54360"/>
            <a:ext cx="753912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788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29840" y="1980720"/>
            <a:ext cx="36788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680" y="4228920"/>
            <a:ext cx="75391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220A-CAB7-47DA-9A30-248AE3C4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-54360"/>
            <a:ext cx="753912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5391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680" y="4228920"/>
            <a:ext cx="75391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6A9F-B17E-4F84-ABD3-48E335CA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-54360"/>
            <a:ext cx="753912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788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9840" y="1980720"/>
            <a:ext cx="36788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680" y="4228920"/>
            <a:ext cx="36788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29840" y="4228920"/>
            <a:ext cx="36788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0859-0A92-4B0B-8C0F-38E27A383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-54360"/>
            <a:ext cx="753912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242748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5840" y="1980720"/>
            <a:ext cx="242748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5000" y="1980720"/>
            <a:ext cx="242748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680" y="4228920"/>
            <a:ext cx="242748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5840" y="4228920"/>
            <a:ext cx="242748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5000" y="4228920"/>
            <a:ext cx="242748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D5455-7116-4F38-B92A-5DF988CEE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-54360"/>
            <a:ext cx="753912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5391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957A-1EC7-464D-9301-CD992093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-54360"/>
            <a:ext cx="753912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788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9840" y="1980720"/>
            <a:ext cx="36788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222E-A80C-4D45-A244-E7A19A67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-54360"/>
            <a:ext cx="753912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FAFF-1308-4E5F-AAE1-DB1BF4A1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680" y="-54360"/>
            <a:ext cx="7539120" cy="9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9C49-714C-4950-A29C-C0AD40BE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-54360"/>
            <a:ext cx="753912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788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9840" y="1980720"/>
            <a:ext cx="36788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4228920"/>
            <a:ext cx="36788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C01A-6318-4A62-A356-28709B2A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-54360"/>
            <a:ext cx="753912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788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9840" y="1980720"/>
            <a:ext cx="36788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29840" y="4228920"/>
            <a:ext cx="36788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4FF6-6905-4AEA-93B7-DF95448D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-54360"/>
            <a:ext cx="753912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788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9840" y="1980720"/>
            <a:ext cx="36788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28920"/>
            <a:ext cx="75391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F0CB-9AE8-4CC2-B273-5ED32881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-54360"/>
            <a:ext cx="753912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5391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3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3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3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3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3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3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900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72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3635D9-FC9B-457B-BFD4-1491A9D795A3}" type="slidenum">
              <a:rPr b="0" lang="en-GB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1280880"/>
            <a:ext cx="708192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3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72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4D3F7EC-8119-474D-912E-C431E285512B}" type="slidenum">
              <a:rPr b="0" lang="en-GB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103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3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3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3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3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de.wikipedia.org/wiki/N&#228;hmaschine" TargetMode="External"/><Relationship Id="rId2" Type="http://schemas.openxmlformats.org/officeDocument/2006/relationships/hyperlink" Target="http://de.wikipedia.org/wiki/Haushaltsger&#228;te" TargetMode="External"/><Relationship Id="rId3" Type="http://schemas.openxmlformats.org/officeDocument/2006/relationships/hyperlink" Target="http://de.wikipedia.org/wiki/B&#252;geleisen" TargetMode="External"/><Relationship Id="rId4" Type="http://schemas.openxmlformats.org/officeDocument/2006/relationships/hyperlink" Target="http://www.waeschepflegemuseum.at/buegeln.htm" TargetMode="External"/><Relationship Id="rId5" Type="http://schemas.openxmlformats.org/officeDocument/2006/relationships/hyperlink" Target="http://de.wikipedia.org/wiki/Liste_der_Haushaltsger&#228;tschaften" TargetMode="External"/><Relationship Id="rId6" Type="http://schemas.openxmlformats.org/officeDocument/2006/relationships/hyperlink" Target="http://de.wikipedia.org/wiki/Liste_der_K&#252;chenger&#228;te" TargetMode="External"/><Relationship Id="rId7" Type="http://schemas.openxmlformats.org/officeDocument/2006/relationships/hyperlink" Target="http://www.vde.com/VDE/Fachgesellschaften/ETG/Arbeitsgebiete/" TargetMode="External"/><Relationship Id="rId8" Type="http://schemas.openxmlformats.org/officeDocument/2006/relationships/hyperlink" Target="http://www.waeschepflegemuseum.at/eetrommelwm.htm&amp;h=178&amp;w=150&amp;sz" TargetMode="Externa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425600" y="781200"/>
            <a:ext cx="6673680" cy="13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Haushaltsgeräte um  19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943360" y="2135160"/>
            <a:ext cx="3536640" cy="4525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99000" y="3432240"/>
            <a:ext cx="31680" cy="3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-54000"/>
            <a:ext cx="7540920" cy="21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eaeaea"/>
                </a:solidFill>
                <a:latin typeface="Tahoma"/>
              </a:rPr>
              <a:t>Weitere Foto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0920" cy="43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85880" y="1459080"/>
            <a:ext cx="3174840" cy="2501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219640" y="1440000"/>
            <a:ext cx="3157560" cy="2520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2519280" y="4130640"/>
            <a:ext cx="4362480" cy="253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dur="indefinite" fill="hold">
                      <p:stCondLst>
                        <p:cond delay="indefinite"/>
                      </p:stCondLst>
                      <p:childTnLst>
                        <p:par>
                          <p:cTn id="2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800360" y="932040"/>
            <a:ext cx="5773680" cy="518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-54000"/>
            <a:ext cx="7540920" cy="21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eaeaea"/>
                </a:solidFill>
                <a:latin typeface="Tahoma"/>
              </a:rPr>
              <a:t>Literaturverzeichni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440000"/>
            <a:ext cx="7540920" cy="56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101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ahoma"/>
              </a:rPr>
              <a:t>http://www.aeg-haustechnik.de/index.php/ de/3/2/aktuell/ presse/meldungen/10764/index.php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3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de.wikipedia.org/wiki/N%C3%A4hmaschine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3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http://de.wikipedia.org/wiki/Haushaltsger%C3%A4te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3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http://de.wikipedia.org/wiki/B%C3%BCgeleisen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3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 u="sng">
                <a:solidFill>
                  <a:srgbClr val="ccccff"/>
                </a:solidFill>
                <a:uFillTx/>
                <a:latin typeface="Tahoma"/>
                <a:hlinkClick r:id="rId4"/>
              </a:rPr>
              <a:t>http://www.waeschepflegemuseum.at/buegeln.htm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3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 u="sng">
                <a:solidFill>
                  <a:srgbClr val="ccccff"/>
                </a:solidFill>
                <a:uFillTx/>
                <a:latin typeface="Tahoma"/>
                <a:hlinkClick r:id="rId5"/>
              </a:rPr>
              <a:t>http://de.wikipedia.org/wiki/Liste_der_Haushaltsger%C3%A4tschaften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3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 u="sng">
                <a:solidFill>
                  <a:srgbClr val="ccccff"/>
                </a:solidFill>
                <a:uFillTx/>
                <a:latin typeface="Tahoma"/>
                <a:hlinkClick r:id="rId6"/>
              </a:rPr>
              <a:t>http://de.wikipedia.org/wiki/Liste_der_K%C3%BCchenger%C3%A4te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3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 u="sng">
                <a:solidFill>
                  <a:srgbClr val="ccccff"/>
                </a:solidFill>
                <a:uFillTx/>
                <a:latin typeface="Tahoma"/>
                <a:hlinkClick r:id="rId7"/>
              </a:rPr>
              <a:t>http://www.vde.com/VDE/Fachgesellschaften/ETG/Arbeitsgebiete/</a:t>
            </a:r>
            <a:r>
              <a:rPr b="0" lang="en-GB" sz="1500" spc="-1" strike="noStrike">
                <a:solidFill>
                  <a:srgbClr val="ffffff"/>
                </a:solidFill>
                <a:latin typeface="Tahoma"/>
              </a:rPr>
              <a:t>Geschichte+der+Energietechnik/Geschichte_1.htm?SmartNavigation=774569b6-3001-42b2-8b45-20a40863b0ff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3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 u="sng">
                <a:solidFill>
                  <a:srgbClr val="ccccff"/>
                </a:solidFill>
                <a:uFillTx/>
                <a:latin typeface="Tahoma"/>
                <a:hlinkClick r:id="rId8"/>
              </a:rPr>
              <a:t>http://www.waeschepflegemuseum.at/eetrommelwm.htm&amp;h=178&amp;w=150&amp;sz</a:t>
            </a:r>
            <a:r>
              <a:rPr b="0" lang="en-GB" sz="1500" spc="-1" strike="noStrike">
                <a:solidFill>
                  <a:srgbClr val="ffffff"/>
                </a:solidFill>
                <a:latin typeface="Tahoma"/>
              </a:rPr>
              <a:t>=10&amp;hl=de&amp;start=1&amp;tbnid=qOpurucnL9QNtM:&amp;tbnh=101&amp;tbnw=85&amp;prev=/images%3Fq%3Dwaschmaschine%2Berste%2Bel</a:t>
            </a:r>
            <a:r>
              <a:rPr b="0" lang="en-GB" sz="1500" spc="-1" strike="noStrike">
                <a:solidFill>
                  <a:srgbClr val="ffffff"/>
                </a:solidFill>
                <a:latin typeface="Tahoma"/>
              </a:rPr>
              <a:t>ektrische%26svnum%3D10%26hl%3Dde%26sa%3DN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3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ahoma"/>
              </a:rPr>
              <a:t>http://www.museumreichelsheim.de/abteilungen_handwerk.htm&amp;h=248&amp;w=350&amp;sz=12&amp;hl=de&amp;start=7&amp;tbnid=JnHU9rZTm2PctM:&amp;tbnh=85&amp;tbnw=120&amp;prev=/images%3Fq%3Dn%25C3%25A4hmaschine%2Bum%2B1900%26svnum%3D10%26hl%3Dde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dur="indefinite" fill="hold">
                      <p:stCondLst>
                        <p:cond delay="indefinite"/>
                      </p:stCondLst>
                      <p:childTnLst>
                        <p:par>
                          <p:cTn id="3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dur="indefinite" fill="hold">
                      <p:stCondLst>
                        <p:cond delay="indefinite"/>
                      </p:stCondLst>
                      <p:childTnLst>
                        <p:par>
                          <p:cTn id="3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280" y="360360"/>
            <a:ext cx="754380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</a:rPr>
              <a:t>Inhalt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79280" y="1717560"/>
            <a:ext cx="7543800" cy="47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aushaltsführung vor der Elektrifizieru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ie Elektrifizierung des öffentlichen Lebe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lektrifizierung auch im Haushal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as Bügeleis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ie Nähmasch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ie Waschmasch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Unterschiede zwischen Stadt und La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eitere Fo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iteraturverzeich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804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-43200"/>
            <a:ext cx="7542360" cy="21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eaeaea"/>
                </a:solidFill>
                <a:latin typeface="Tahoma"/>
              </a:rPr>
              <a:t>Haushaltsführung vor der Elektrifizierung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319720" y="2519280"/>
            <a:ext cx="3681360" cy="24433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034400" cy="45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rauen arbeiten im Haushal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angwierige, mühsame un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804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nstrengende Arbei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usschließlich Handarbe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Kochen auf offener Flam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804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=&gt; gefährlich u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804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esundheitsschädli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as als Brennstoff (um 188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ausbeleuchtung durch Kerzen, Öl-, Petroleum- und Gaslampe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5400720" y="5040360"/>
            <a:ext cx="3421080" cy="360360"/>
          </a:xfrm>
          <a:prstGeom prst="roundRect">
            <a:avLst>
              <a:gd name="adj" fmla="val 44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ine Kochstelle um 18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-43200"/>
            <a:ext cx="7542360" cy="21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eaeaea"/>
                </a:solidFill>
                <a:latin typeface="Tahoma"/>
              </a:rPr>
              <a:t>Die Elektrifizierung des öffentlichen Lebe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460000" cy="42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4440" indent="-3344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Stetige Energieerzeugung durch Dynamomaschinen (Werner von Siemens, 1866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4440" indent="-3344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Beleuchtung von öffentlichen Gebäuden (Post und Reichstag in Berlin) oder Fabriken (Friedrich-Krupp-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444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Werke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4440" indent="-3344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Erste öffentliche Elektrizitäts-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444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werk in Berli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4440" indent="-3344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Elektrische Transportmitt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444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=&gt; Straßenbah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219640" y="3959280"/>
            <a:ext cx="3862440" cy="23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-43200"/>
            <a:ext cx="7542360" cy="21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eaeaea"/>
                </a:solidFill>
                <a:latin typeface="Tahoma"/>
              </a:rPr>
              <a:t>Elektrifizierung auch im Haushalt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20720" y="19807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Vereinfachung aufwendiger Arbeiten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804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- Waschen, Bügeln, Geschirrschülen, Nähe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Ausnutzung des technischenFortschritts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Wenige Haushalte mit Stromanschlus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804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=&gt; Strom ist teuer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804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=&gt; alte Haushaltsgeräte sin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804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praktischer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Zur Beleuchtung des Haus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804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804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715080" y="3498840"/>
            <a:ext cx="2286000" cy="316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dur="indefinite" fill="hold">
                      <p:stCondLst>
                        <p:cond delay="indefinite"/>
                      </p:stCondLst>
                      <p:childTnLst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-43200"/>
            <a:ext cx="7542360" cy="21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eaeaea"/>
                </a:solidFill>
                <a:latin typeface="Tahoma"/>
              </a:rPr>
              <a:t>Das Bügeleise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79640"/>
            <a:ext cx="4154760" cy="475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4440" indent="-3344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Vor der Elektrifizierung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444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- Kohlebügeleise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444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- Satzeise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444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- Stageleise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444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- Gasbügeleise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4440" indent="-3344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Nach der Elektrifizierung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444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- erstes Eisen um 1888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444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- unkompliziertes Bügel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219640" y="1440000"/>
            <a:ext cx="3600360" cy="50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dur="indefinite" fill="hold">
                      <p:stCondLst>
                        <p:cond delay="indefinite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dur="indefinite" fill="hold">
                      <p:stCondLst>
                        <p:cond delay="indefinite"/>
                      </p:stCondLst>
                      <p:childTnLst>
                        <p:par>
                          <p:cTn id="1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dur="indefinite" fill="hold">
                      <p:stCondLst>
                        <p:cond delay="indefinite"/>
                      </p:stCondLst>
                      <p:childTnLst>
                        <p:par>
                          <p:cTn id="1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dur="indefinite" fill="hold">
                      <p:stCondLst>
                        <p:cond delay="indefinite"/>
                      </p:stCondLst>
                      <p:childTnLst>
                        <p:par>
                          <p:cTn id="1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-43200"/>
            <a:ext cx="7542360" cy="21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eaeaea"/>
                </a:solidFill>
                <a:latin typeface="Tahoma"/>
              </a:rPr>
              <a:t>Die Nähmaschine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79640" y="1981080"/>
            <a:ext cx="3932280" cy="454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4440" indent="-3344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Erfinder war Elias How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4440" indent="-3344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Geübter Näher =&gt; bis  zu 50 Stiche/Minut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4440" indent="-3344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Nähmaschine =&gt; bis zu 300 Stiche/Minut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444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=&gt; Zeiteinsparung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444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=&gt; ungefährlicher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4440" indent="-3344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Erste elektrische Nähmaschine 1889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20720" y="3745080"/>
            <a:ext cx="3681360" cy="2734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440000" y="1619280"/>
            <a:ext cx="1979640" cy="19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dur="indefinite" fill="hold">
                      <p:stCondLst>
                        <p:cond delay="indefinite"/>
                      </p:stCondLst>
                      <p:childTnLst>
                        <p:par>
                          <p:cTn id="2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dur="indefinite" fill="hold">
                      <p:stCondLst>
                        <p:cond delay="indefinite"/>
                      </p:stCondLst>
                      <p:childTnLst>
                        <p:par>
                          <p:cTn id="2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dur="indefinite" fill="hold">
                      <p:stCondLst>
                        <p:cond delay="indefinite"/>
                      </p:stCondLst>
                      <p:childTnLst>
                        <p:par>
                          <p:cTn id="2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dur="indefinite" fill="hold">
                      <p:stCondLst>
                        <p:cond delay="indefinite"/>
                      </p:stCondLst>
                      <p:childTnLst>
                        <p:par>
                          <p:cTn id="2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dur="indefinite" fill="hold">
                      <p:stCondLst>
                        <p:cond delay="indefinite"/>
                      </p:stCondLst>
                      <p:childTnLst>
                        <p:par>
                          <p:cTn id="2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dur="indefinite" fill="hold">
                      <p:stCondLst>
                        <p:cond delay="indefinite"/>
                      </p:stCondLst>
                      <p:childTnLst>
                        <p:par>
                          <p:cTn id="2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-43200"/>
            <a:ext cx="7542360" cy="21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eaeaea"/>
                </a:solidFill>
                <a:latin typeface="Tahoma"/>
              </a:rPr>
              <a:t>Die Waschmaschine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8136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  <a:ea typeface="MS Gothic"/>
              </a:rPr>
              <a:t>Waschen der Wäsche am Waschtag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804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  <a:ea typeface="MS Gothic"/>
              </a:rPr>
              <a:t>   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  <a:ea typeface="MS Gothic"/>
              </a:rPr>
              <a:t>=&gt; zeitaufwendig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  <a:ea typeface="MS Gothic"/>
              </a:rPr>
              <a:t>Alva J. Fisher entwickelt 1901 die erste elektrische Waschmaschin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804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  <a:ea typeface="MS Gothic"/>
              </a:rPr>
              <a:t>   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  <a:ea typeface="MS Gothic"/>
              </a:rPr>
              <a:t>=&gt; enorme Arbeitserleichterung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654520" y="4038480"/>
            <a:ext cx="2265480" cy="26211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219640" y="1619280"/>
            <a:ext cx="3421080" cy="23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dur="indefinite" fill="hold">
                      <p:stCondLst>
                        <p:cond delay="indefinite"/>
                      </p:stCondLst>
                      <p:childTnLst>
                        <p:par>
                          <p:cTn id="2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dur="indefinite" fill="hold">
                      <p:stCondLst>
                        <p:cond delay="indefinite"/>
                      </p:stCondLst>
                      <p:childTnLst>
                        <p:par>
                          <p:cTn id="2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dur="indefinite" fill="hold">
                      <p:stCondLst>
                        <p:cond delay="indefinite"/>
                      </p:stCondLst>
                      <p:childTnLst>
                        <p:par>
                          <p:cTn id="2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dur="indefinite" fill="hold">
                      <p:stCondLst>
                        <p:cond delay="indefinite"/>
                      </p:stCondLst>
                      <p:childTnLst>
                        <p:par>
                          <p:cTn id="2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dur="indefinite" fill="hold">
                      <p:stCondLst>
                        <p:cond delay="indefinite"/>
                      </p:stCondLst>
                      <p:childTnLst>
                        <p:par>
                          <p:cTn id="2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dur="indefinite" fill="hold">
                      <p:stCondLst>
                        <p:cond delay="indefinite"/>
                      </p:stCondLst>
                      <p:childTnLst>
                        <p:par>
                          <p:cTn id="2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dur="indefinite" fill="hold">
                      <p:stCondLst>
                        <p:cond delay="indefinite"/>
                      </p:stCondLst>
                      <p:childTnLst>
                        <p:par>
                          <p:cTn id="2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-43200"/>
            <a:ext cx="7542360" cy="21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eaeaea"/>
                </a:solidFill>
                <a:latin typeface="Tahoma"/>
              </a:rPr>
              <a:t>Unterschied zwischen Stadt und Land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2360" cy="464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4440" indent="-3344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Stadt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444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- Zentrum der elektrischen Versorgungsstationen   (z.B. öffentliche Elektrizitätswerke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444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- Oberschicht vorhanden =&gt; kann sich                  Strom/moderne Haushaltsgeräte leiste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4440" indent="-3344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Land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444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- verzögerte Elektrifizierung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444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- höchstens manuelle Haushaltsgerät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444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- aufwendiges Arbeite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dur="indefinite" fill="hold">
                      <p:stCondLst>
                        <p:cond delay="indefinite"/>
                      </p:stCondLst>
                      <p:childTnLst>
                        <p:par>
                          <p:cTn id="2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dur="indefinite" fill="hold">
                      <p:stCondLst>
                        <p:cond delay="indefinite"/>
                      </p:stCondLst>
                      <p:childTnLst>
                        <p:par>
                          <p:cTn id="2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dur="indefinite" fill="hold">
                      <p:stCondLst>
                        <p:cond delay="indefinite"/>
                      </p:stCondLst>
                      <p:childTnLst>
                        <p:par>
                          <p:cTn id="2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dur="indefinite" fill="hold">
                      <p:stCondLst>
                        <p:cond delay="indefinite"/>
                      </p:stCondLst>
                      <p:childTnLst>
                        <p:par>
                          <p:cTn id="2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dur="indefinite" fill="hold">
                      <p:stCondLst>
                        <p:cond delay="indefinite"/>
                      </p:stCondLst>
                      <p:childTnLst>
                        <p:par>
                          <p:cTn id="2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dur="indefinite" fill="hold">
                      <p:stCondLst>
                        <p:cond delay="indefinite"/>
                      </p:stCondLst>
                      <p:childTnLst>
                        <p:par>
                          <p:cTn id="2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