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-360" y="-12978000"/>
            <a:ext cx="360" cy="27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-12841200"/>
            <a:ext cx="1440" cy="270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-12841200"/>
            <a:ext cx="1440" cy="270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-12841200"/>
            <a:ext cx="1440" cy="270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-12841200"/>
            <a:ext cx="1440" cy="270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-12841200"/>
            <a:ext cx="1440" cy="270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-12841200"/>
            <a:ext cx="1440" cy="270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-12841200"/>
            <a:ext cx="1440" cy="270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F30-E84E-40C1-9FE8-26A2BE29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91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228920"/>
            <a:ext cx="75391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73C-8AB5-48BB-BEA4-C2D9C967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2289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29840" y="42289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09B-DE2B-4438-8F29-E0FBD2B6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5840" y="19807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5000" y="19807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2289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5840" y="42289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5000" y="42289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CA5-E41C-4795-9F08-39D18AC5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385B-D470-47DD-89C6-51B0E2C1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5391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1485-4C31-4AAD-8E3A-E7FAC3F0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91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8D8F-31B0-44E0-87FB-29CE0AFC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8D34-EA84-4ACB-9F58-FDCF1446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637F-1B32-48DA-8C5C-79AC200F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680" y="-54360"/>
            <a:ext cx="7539120" cy="9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9CF1-931B-4E10-A4A9-3A9EDE37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2289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B900-0EBB-45DF-8FE5-AEBE8360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5391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58D-39D3-440B-91ED-D265E3F2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29840" y="42289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C7CE-E483-44E2-B50F-B2841309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228920"/>
            <a:ext cx="75391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B918-A7A4-4D5C-AC41-9D009796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91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228920"/>
            <a:ext cx="75391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B104-595B-4446-86E8-A7356245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2289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29840" y="42289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BF75-79F6-4497-B7DA-10303912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5840" y="19807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5000" y="19807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2289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5840" y="42289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5000" y="4228920"/>
            <a:ext cx="242748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2F53-7530-49B1-A381-5EA1C92D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5391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6DC-E4A7-4F37-9B48-12636415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BC7-9351-4B39-918F-E21C8D50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EE1-BF66-481A-B65D-98F3D6AA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680" y="-54360"/>
            <a:ext cx="7539120" cy="9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867-68E4-4A2C-829D-095684BF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2289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D98-6275-446B-B0D3-13D9F6B2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29840" y="42289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BBE-E062-4722-9940-190EC6C5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9840" y="1980720"/>
            <a:ext cx="3678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28920"/>
            <a:ext cx="75391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4A9-11CC-4BB9-A652-2CADFA5C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-54360"/>
            <a:ext cx="75391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5391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3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900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7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7AE3A-919F-4E62-8CF2-A1D44631ED34}" type="slidenum"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280880"/>
            <a:ext cx="70819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3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7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986C1F-F2CA-41BB-825D-D3A3562EBD59}" type="slidenum"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e.wikipedia.org/wiki/N&#228;hmaschine" TargetMode="External"/><Relationship Id="rId2" Type="http://schemas.openxmlformats.org/officeDocument/2006/relationships/hyperlink" Target="http://de.wikipedia.org/wiki/Haushaltsger&#228;te" TargetMode="External"/><Relationship Id="rId3" Type="http://schemas.openxmlformats.org/officeDocument/2006/relationships/hyperlink" Target="http://de.wikipedia.org/wiki/B&#252;geleisen" TargetMode="External"/><Relationship Id="rId4" Type="http://schemas.openxmlformats.org/officeDocument/2006/relationships/hyperlink" Target="http://www.waeschepflegemuseum.at/buegeln.htm" TargetMode="External"/><Relationship Id="rId5" Type="http://schemas.openxmlformats.org/officeDocument/2006/relationships/hyperlink" Target="http://de.wikipedia.org/wiki/Liste_der_Haushaltsger&#228;tschaften" TargetMode="External"/><Relationship Id="rId6" Type="http://schemas.openxmlformats.org/officeDocument/2006/relationships/hyperlink" Target="http://de.wikipedia.org/wiki/Liste_der_K&#252;chenger&#228;te" TargetMode="External"/><Relationship Id="rId7" Type="http://schemas.openxmlformats.org/officeDocument/2006/relationships/hyperlink" Target="http://www.vde.com/VDE/Fachgesellschaften/ETG/Arbeitsgebiete/" TargetMode="External"/><Relationship Id="rId8" Type="http://schemas.openxmlformats.org/officeDocument/2006/relationships/hyperlink" Target="http://www.waeschepflegemuseum.at/eetrommelwm.htm&amp;h=178&amp;w=150&amp;sz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25600" y="781200"/>
            <a:ext cx="667368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Haushaltsgeräte um  19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43360" y="2135160"/>
            <a:ext cx="353664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99000" y="3432240"/>
            <a:ext cx="31680" cy="3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-54000"/>
            <a:ext cx="7540920" cy="21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Weitere Foto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092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85880" y="1459080"/>
            <a:ext cx="3174840" cy="2501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219640" y="1440000"/>
            <a:ext cx="3157560" cy="252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519280" y="4130640"/>
            <a:ext cx="436248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800360" y="932040"/>
            <a:ext cx="5773680" cy="51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-54000"/>
            <a:ext cx="7540920" cy="21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Literaturverzeichni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440000"/>
            <a:ext cx="7540920" cy="56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1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http://www.aeg-haustechnik.de/index.php/ de/3/2/aktuell/ presse/meldungen/10764/index.php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de.wikipedia.org/wiki/N%C3%A4hmaschin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de.wikipedia.org/wiki/Haushaltsger%C3%A4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http://de.wikipedia.org/wiki/B%C3%BCgeleise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http://www.waeschepflegemuseum.at/buegeln.htm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http://de.wikipedia.org/wiki/Liste_der_Haushaltsger%C3%A4tschafte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http://de.wikipedia.org/wiki/Liste_der_K%C3%BCchenger%C3%A4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Tahoma"/>
                <a:hlinkClick r:id="rId7"/>
              </a:rPr>
              <a:t>http://www.vde.com/VDE/Fachgesellschaften/ETG/Arbeitsgebiete/</a:t>
            </a: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Geschichte+der+Energietechnik/Geschichte_1.htm?SmartNavigation=774569b6-3001-42b2-8b45-20a40863b0ff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Tahoma"/>
                <a:hlinkClick r:id="rId8"/>
              </a:rPr>
              <a:t>http://www.waeschepflegemuseum.at/eetrommelwm.htm&amp;h=178&amp;w=150&amp;sz</a:t>
            </a: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=10&amp;hl=de&amp;start=1&amp;tbnid=qOpurucnL9QNtM:&amp;tbnh=101&amp;tbnw=85&amp;prev=/images%3Fq%3Dwaschmaschine%2Berste%2Bel</a:t>
            </a: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ektrische%26svnum%3D10%26hl%3Dde%26sa%3D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http://www.museumreichelsheim.de/abteilungen_handwerk.htm&amp;h=248&amp;w=350&amp;sz=12&amp;hl=de&amp;start=7&amp;tbnid=JnHU9rZTm2PctM:&amp;tbnh=85&amp;tbnw=120&amp;prev=/images%3Fq%3Dn%25C3%25A4hmaschine%2Bum%2B1900%26svnum%3D10%26hl%3Dd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280" y="360360"/>
            <a:ext cx="75438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Inhal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9280" y="1717560"/>
            <a:ext cx="754380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ushaltsführung vor der Elektrifizieru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e Elektrifizierung des öffentlichen Leb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lektrifizierung auch im Hausha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as Bügelei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e Nähmasch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e Waschmasch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nterschiede zwischen Stadt und L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itere Fo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iteraturverzeich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-43200"/>
            <a:ext cx="754236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Haushaltsführung vor der Elektrifizierung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19720" y="2519280"/>
            <a:ext cx="3681360" cy="2443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3440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rauen arbeiten im Hausha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angwierige, mühsame u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strengende Arbei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usschließlich Handarbe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Kochen auf offener Flam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=&gt; gefährlich 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esundheitsschädli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as als Brennstoff (um 188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usbeleuchtung durch Kerzen, Öl-, Petroleum- und Gaslamp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5400720" y="5040360"/>
            <a:ext cx="3421080" cy="360360"/>
          </a:xfrm>
          <a:prstGeom prst="roundRect">
            <a:avLst>
              <a:gd name="adj" fmla="val 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ine Kochstelle um 18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-43200"/>
            <a:ext cx="754236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Die Elektrifizierung des öffentlichen Lebe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46000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tetige Energieerzeugung durch Dynamomaschinen (Werner von Siemens, 1866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Beleuchtung von öffentlichen Gebäuden (Post und Reichstag in Berlin) oder Fabriken (Friedrich-Krupp-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Werke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rste öffentliche Elektrizitäts-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werk in Berli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lektrische Transportmitt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=&gt; Straßenbah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19640" y="3959280"/>
            <a:ext cx="386244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-43200"/>
            <a:ext cx="754236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Elektrifizierung auch im Haushal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0720" y="19807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Vereinfachung aufwendiger Arbeiten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Waschen, Bügeln, Geschirrschülen, Näh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Ausnutzung des technischenFortschritt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Wenige Haushalte mit Stromanschlu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=&gt; Strom ist teu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=&gt; alte Haushaltsgeräte sin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raktisch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Zur Beleuchtung des Haus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715080" y="3498840"/>
            <a:ext cx="2286000" cy="31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-43200"/>
            <a:ext cx="754236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Das Bügeleise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79640"/>
            <a:ext cx="4154760" cy="47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Vor der Elektrifizierung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Kohlebügeleis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Satzeis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Stageleis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Gasbügeleis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Nach der Elektrifizierung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erstes Eisen um 1888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unkompliziertes Bügel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1440000"/>
            <a:ext cx="3600360" cy="50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-43200"/>
            <a:ext cx="754236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Die Nähmaschin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79640" y="1981080"/>
            <a:ext cx="3932280" cy="45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rfinder war Elias How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Geübter Näher =&gt; bis  zu 50 Stiche/Minut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Nähmaschine =&gt; bis zu 300 Stiche/Minut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=&gt; Zeiteinsparu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=&gt; ungefährlich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rste elektrische Nähmaschine 1889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20720" y="3745080"/>
            <a:ext cx="3681360" cy="273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40000" y="161928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43200"/>
            <a:ext cx="754236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Die Waschmaschin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8136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S Gothic"/>
              </a:rPr>
              <a:t>Waschen der Wäsche am Waschtag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S Gothic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S Gothic"/>
              </a:rPr>
              <a:t>=&gt; zeitaufwendi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S Gothic"/>
              </a:rPr>
              <a:t>Alva J. Fisher entwickelt 1901 die erste elektrische Waschmaschi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S Gothic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S Gothic"/>
              </a:rPr>
              <a:t>=&gt; enorme Arbeitserleichteru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654520" y="4038480"/>
            <a:ext cx="2265480" cy="2621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219640" y="1619280"/>
            <a:ext cx="342108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-43200"/>
            <a:ext cx="754236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Unterschied zwischen Stadt und Land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464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tadt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Zentrum der elektrischen Versorgungsstationen   (z.B. öffentliche Elektrizitätswerke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Oberschicht vorhanden =&gt; kann sich                  Strom/moderne Haushaltsgeräte leist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Land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verzögerte Elektrifizieru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höchstens manuelle Haushaltsgerät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444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- aufwendiges Arbeit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