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CE2F-5259-4EB6-A004-94604EC72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89F2-2BB9-4744-B0C1-B7337C59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162C-BE0D-47B5-8BB9-1549054FC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9806-D7AE-41A9-9DD3-6B52DD0FC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74AA-B208-4861-BF0B-055907F34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ACE8-24AC-4552-9369-AFB0DD65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6A48-7437-4DD3-BEFA-580E096D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7BF2-F2CB-4E65-85DE-B3B3E7BB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AAB6-2F82-4AC5-806E-956E6615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BB6E-B3D9-4C9D-9F5E-758C09B1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DBE3-A2D7-480D-9CE6-73B16BE6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8A90-DD27-4E07-98CD-39091CAE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0997-BF09-42AD-AFC7-5F7A1403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A486-0FFC-4DAD-83FF-B1457BE6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1649-ACD5-46E0-9088-AFB3D308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0E85-BCBB-42A2-A30D-3875723B4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5659-09F5-4ED6-85D1-8E541A9FC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3CC7-631C-4C22-A581-FDD38DCA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BB59-DAE2-4F73-A5AB-01940293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0CE4-38DB-4AE5-9034-6CB541CE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2251-6ECD-425C-8C11-E46E080E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4264-BCF7-4FBE-A60B-A4B88632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C90E-0582-4A1F-B669-D04FECE7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608E-3D64-4198-80D0-BD8EE902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3276720" y="6324480"/>
              <a:ext cx="3047760" cy="457200"/>
              <a:chOff x="3276720" y="6324480"/>
              <a:chExt cx="3047760" cy="457200"/>
            </a:xfrm>
          </p:grpSpPr>
          <p:sp>
            <p:nvSpPr>
              <p:cNvPr id="57" name=""/>
              <p:cNvSpPr/>
              <p:nvPr/>
            </p:nvSpPr>
            <p:spPr>
              <a:xfrm>
                <a:off x="3352680" y="6400800"/>
                <a:ext cx="2895840" cy="3049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276720" y="6400800"/>
                <a:ext cx="3047760" cy="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276720" y="6705720"/>
                <a:ext cx="3047760" cy="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52680" y="6324480"/>
                <a:ext cx="0" cy="45720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248520" y="6324480"/>
                <a:ext cx="0" cy="45720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7162920" y="6324480"/>
              <a:ext cx="1447560" cy="457200"/>
              <a:chOff x="7162920" y="6324480"/>
              <a:chExt cx="1447560" cy="457200"/>
            </a:xfrm>
          </p:grpSpPr>
          <p:sp>
            <p:nvSpPr>
              <p:cNvPr id="63" name=""/>
              <p:cNvSpPr/>
              <p:nvPr/>
            </p:nvSpPr>
            <p:spPr>
              <a:xfrm>
                <a:off x="7238880" y="6400800"/>
                <a:ext cx="1295640" cy="3049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62920" y="6400800"/>
                <a:ext cx="1447560" cy="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162920" y="6705720"/>
                <a:ext cx="1447560" cy="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238880" y="6324480"/>
                <a:ext cx="0" cy="45720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534520" y="6324480"/>
                <a:ext cx="0" cy="45720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990720" y="6324480"/>
              <a:ext cx="1447560" cy="457200"/>
              <a:chOff x="990720" y="6324480"/>
              <a:chExt cx="1447560" cy="457200"/>
            </a:xfrm>
          </p:grpSpPr>
          <p:sp>
            <p:nvSpPr>
              <p:cNvPr id="69" name=""/>
              <p:cNvSpPr/>
              <p:nvPr/>
            </p:nvSpPr>
            <p:spPr>
              <a:xfrm>
                <a:off x="1066680" y="6400800"/>
                <a:ext cx="1295640" cy="3049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990720" y="6400800"/>
                <a:ext cx="1447560" cy="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990720" y="6705720"/>
                <a:ext cx="1447560" cy="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066680" y="6324480"/>
                <a:ext cx="0" cy="45720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362320" y="6324480"/>
                <a:ext cx="0" cy="45720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81a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76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</p:grp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6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1abc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6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ac0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6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81abc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6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3d6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6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3d6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6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3d6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6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d62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F5DA-21A4-4798-8ACD-03FC7A57E27C}" type="datetime">
              <a:rPr b="0" lang="de-DE" sz="1400" spc="-1" strike="noStrike">
                <a:solidFill>
                  <a:srgbClr val="003d62"/>
                </a:solidFill>
                <a:latin typeface="Comic Sans MS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d62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d62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d62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d62"/>
                </a:solidFill>
                <a:latin typeface="Comic Sans MS"/>
              </a:rPr>
              <a:t>Page </a:t>
            </a:r>
            <a:fld id="{413034AB-6508-4063-B5CC-E73B22AFD7BC}" type="slidenum">
              <a:rPr b="0" lang="de-DE" sz="1400" spc="-1" strike="noStrike">
                <a:solidFill>
                  <a:srgbClr val="003d62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21" name=""/>
            <p:cNvGrpSpPr/>
            <p:nvPr/>
          </p:nvGrpSpPr>
          <p:grpSpPr>
            <a:xfrm>
              <a:off x="1104840" y="3141720"/>
              <a:ext cx="4971960" cy="514440"/>
              <a:chOff x="1104840" y="3141720"/>
              <a:chExt cx="4971960" cy="514440"/>
            </a:xfrm>
          </p:grpSpPr>
          <p:sp>
            <p:nvSpPr>
              <p:cNvPr id="122" name=""/>
              <p:cNvSpPr/>
              <p:nvPr/>
            </p:nvSpPr>
            <p:spPr>
              <a:xfrm>
                <a:off x="1104840" y="3141720"/>
                <a:ext cx="1752840" cy="457200"/>
              </a:xfrm>
              <a:prstGeom prst="rect">
                <a:avLst/>
              </a:prstGeom>
              <a:solidFill>
                <a:srgbClr val="b6c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04840" y="3503880"/>
                <a:ext cx="2286000" cy="152280"/>
              </a:xfrm>
              <a:prstGeom prst="rect">
                <a:avLst/>
              </a:prstGeom>
              <a:solidFill>
                <a:srgbClr val="b6c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24120" y="3418200"/>
                <a:ext cx="3352680" cy="171360"/>
              </a:xfrm>
              <a:prstGeom prst="rect">
                <a:avLst/>
              </a:prstGeom>
              <a:solidFill>
                <a:srgbClr val="b6c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719440" y="3237120"/>
                <a:ext cx="2971800" cy="228600"/>
              </a:xfrm>
              <a:prstGeom prst="rect">
                <a:avLst/>
              </a:prstGeom>
              <a:solidFill>
                <a:srgbClr val="b6c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solidFill>
              <a:srgbClr val="b6c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6cb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7162920" y="6324480"/>
              <a:ext cx="1447560" cy="457200"/>
              <a:chOff x="7162920" y="6324480"/>
              <a:chExt cx="1447560" cy="457200"/>
            </a:xfrm>
          </p:grpSpPr>
          <p:sp>
            <p:nvSpPr>
              <p:cNvPr id="182" name=""/>
              <p:cNvSpPr/>
              <p:nvPr/>
            </p:nvSpPr>
            <p:spPr>
              <a:xfrm>
                <a:off x="7238880" y="6400800"/>
                <a:ext cx="1295640" cy="3049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162920" y="6400800"/>
                <a:ext cx="1447560" cy="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162920" y="6705720"/>
                <a:ext cx="1447560" cy="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238880" y="6324480"/>
                <a:ext cx="0" cy="45720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534520" y="6324480"/>
                <a:ext cx="0" cy="45720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81a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414360" y="2845080"/>
              <a:ext cx="6355800" cy="2690280"/>
              <a:chOff x="414360" y="2845080"/>
              <a:chExt cx="6355800" cy="2690280"/>
            </a:xfrm>
          </p:grpSpPr>
          <p:sp>
            <p:nvSpPr>
              <p:cNvPr id="189" name=""/>
              <p:cNvSpPr/>
              <p:nvPr/>
            </p:nvSpPr>
            <p:spPr>
              <a:xfrm flipH="1">
                <a:off x="414360" y="3232440"/>
                <a:ext cx="2433600" cy="468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08040" y="3117960"/>
                <a:ext cx="0" cy="236844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 rot="16200000">
                <a:off x="479160" y="31147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045800" y="3000240"/>
                <a:ext cx="476280" cy="47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715" y="6518"/>
                    </a:moveTo>
                    <a:arcTo wR="10800" hR="10800" stAng="-1401335" swAng="986146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715" y="6518"/>
                    </a:moveTo>
                    <a:arcTo wR="10800" hR="10800" stAng="-1401335" swAng="9861460"/>
                  </a:path>
                </a:pathLst>
              </a:custGeom>
              <a:noFill/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1324080" y="3081600"/>
                <a:ext cx="914040" cy="912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498" y="20209"/>
                    </a:moveTo>
                    <a:arcTo wR="10800" hR="10800" stAng="7164193" swAng="4498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498" y="20209"/>
                    </a:moveTo>
                    <a:arcTo wR="10800" hR="10800" stAng="7164193" swAng="4498063"/>
                  </a:path>
                </a:pathLst>
              </a:custGeom>
              <a:noFill/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1327320" y="3092040"/>
                <a:ext cx="914040" cy="91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315" y="8333"/>
                    </a:moveTo>
                    <a:arcTo wR="10800" hR="10800" stAng="-792138" swAng="47472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315" y="8333"/>
                    </a:moveTo>
                    <a:arcTo wR="10800" hR="10800" stAng="-792138" swAng="4747290"/>
                  </a:path>
                </a:pathLst>
              </a:custGeom>
              <a:noFill/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1143000" y="3137040"/>
                <a:ext cx="662040" cy="51912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24000" y="3137040"/>
                <a:ext cx="476280" cy="51444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4135680" y="2902320"/>
                <a:ext cx="2634480" cy="263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610" y="18858"/>
                    </a:moveTo>
                    <a:arcTo wR="10800" hR="10800" stAng="7904515" swAng="11638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610" y="18858"/>
                    </a:moveTo>
                    <a:arcTo wR="10800" hR="10800" stAng="7904515" swAng="1163815"/>
                  </a:path>
                </a:pathLst>
              </a:custGeom>
              <a:noFill/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880520" y="2845080"/>
                <a:ext cx="680760" cy="68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71" y="12467"/>
                    </a:moveTo>
                    <a:arcTo wR="10800" hR="10800" stAng="532687" swAng="98360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71" y="12467"/>
                    </a:moveTo>
                    <a:arcTo wR="10800" hR="10800" stAng="532687" swAng="9836051"/>
                  </a:path>
                </a:pathLst>
              </a:custGeom>
              <a:noFill/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 flipV="1">
                <a:off x="5461560" y="3368160"/>
                <a:ext cx="45756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9" y="11474"/>
                    </a:moveTo>
                    <a:arcTo wR="10800" hR="10800" stAng="214610" swAng="104078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9" y="11474"/>
                    </a:moveTo>
                    <a:arcTo wR="10800" hR="10800" stAng="214610" swAng="10407819"/>
                  </a:path>
                </a:pathLst>
              </a:custGeom>
              <a:noFill/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 flipV="1">
                <a:off x="4357080" y="3381480"/>
                <a:ext cx="318600" cy="31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14" y="7598"/>
                    </a:moveTo>
                    <a:arcTo wR="10800" hR="10800" stAng="-1034896" swAng="127520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14" y="7598"/>
                    </a:moveTo>
                    <a:arcTo wR="10800" hR="10800" stAng="-1034896" swAng="12752080"/>
                  </a:path>
                </a:pathLst>
              </a:custGeom>
              <a:noFill/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419720" y="3246480"/>
                <a:ext cx="347400" cy="34308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210280" y="3232440"/>
                <a:ext cx="476280" cy="35244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4723920" y="3232440"/>
                <a:ext cx="476280" cy="35244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205240" y="3232440"/>
                <a:ext cx="0" cy="35712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681520" y="3232440"/>
                <a:ext cx="0" cy="47124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57200" y="3589560"/>
                <a:ext cx="5619600" cy="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ahoma"/>
                </a:endParaRPr>
              </a:p>
            </p:txBody>
          </p:sp>
        </p:grp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4"/>
          </p:nvPr>
        </p:nvSpPr>
        <p:spPr>
          <a:xfrm>
            <a:off x="7238880" y="6248520"/>
            <a:ext cx="133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d62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02F6-25D3-481E-964A-068DE037F872}" type="datetime">
              <a:rPr b="0" lang="de-DE" sz="1400" spc="-1" strike="noStrike">
                <a:solidFill>
                  <a:srgbClr val="003d62"/>
                </a:solidFill>
                <a:latin typeface="Comic Sans MS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d62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d62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d62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d62"/>
                </a:solidFill>
                <a:latin typeface="Comic Sans MS"/>
              </a:rPr>
              <a:t>Page </a:t>
            </a:r>
            <a:fld id="{D39D495D-1CA4-4B87-B66A-33376929640C}" type="slidenum">
              <a:rPr b="0" lang="de-DE" sz="1400" spc="-1" strike="noStrike">
                <a:solidFill>
                  <a:srgbClr val="003d62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6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d6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9ac0ea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1abcb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6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3d62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6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3d6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6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3d6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6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ahoma"/>
              </a:rPr>
              <a:t>Industrialisierung</a:t>
            </a: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62"/>
                </a:solidFill>
                <a:latin typeface="Tahoma"/>
              </a:rPr>
              <a:t>England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62"/>
                </a:solidFill>
                <a:latin typeface="Tahoma"/>
              </a:rPr>
              <a:t>Deutschland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1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62"/>
                </a:solidFill>
                <a:latin typeface="Tahoma"/>
              </a:rPr>
              <a:t>Die deutsche Ausgangssituation um 1800</a:t>
            </a:r>
            <a:endParaRPr b="0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52" name=""/>
          <p:cNvSpPr/>
          <p:nvPr/>
        </p:nvSpPr>
        <p:spPr>
          <a:xfrm>
            <a:off x="324000" y="9079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847de"/>
                </a:solidFill>
                <a:latin typeface="Tahoma"/>
              </a:rPr>
              <a:t>Politische Faktore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324000" y="1557360"/>
            <a:ext cx="23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847de"/>
                </a:solidFill>
                <a:latin typeface="Tahoma"/>
              </a:rPr>
              <a:t>Bildungswese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324000" y="21337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847de"/>
                </a:solidFill>
                <a:latin typeface="Tahoma"/>
              </a:rPr>
              <a:t>Mentalität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55" name=""/>
          <p:cNvSpPr/>
          <p:nvPr/>
        </p:nvSpPr>
        <p:spPr>
          <a:xfrm>
            <a:off x="3132000" y="907920"/>
            <a:ext cx="266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847de"/>
                </a:solidFill>
                <a:latin typeface="Tahoma"/>
              </a:rPr>
              <a:t>Feudale Ständegesellschaft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56" name=""/>
          <p:cNvSpPr/>
          <p:nvPr/>
        </p:nvSpPr>
        <p:spPr>
          <a:xfrm>
            <a:off x="6300720" y="836640"/>
            <a:ext cx="284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847de"/>
                </a:solidFill>
                <a:latin typeface="Tahoma"/>
              </a:rPr>
              <a:t>Merkantilismus als vorherrschende Wirtschaftspolitik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57" name=""/>
          <p:cNvSpPr/>
          <p:nvPr/>
        </p:nvSpPr>
        <p:spPr>
          <a:xfrm>
            <a:off x="6659640" y="1916280"/>
            <a:ext cx="24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58" name=""/>
          <p:cNvSpPr/>
          <p:nvPr/>
        </p:nvSpPr>
        <p:spPr>
          <a:xfrm>
            <a:off x="6300720" y="1844640"/>
            <a:ext cx="28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847de"/>
                </a:solidFill>
                <a:latin typeface="Tahoma"/>
              </a:rPr>
              <a:t>Geographische Lage/ Handel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2411280" y="2421000"/>
            <a:ext cx="42483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3904"/>
                </a:solidFill>
                <a:latin typeface="Tahoma"/>
              </a:rPr>
              <a:t>RÜCKSTÄNDIGKEIT DEUTSCHLANDS</a:t>
            </a:r>
            <a:r>
              <a:rPr b="0" lang="en-US" sz="1800" spc="-1" strike="noStrike">
                <a:solidFill>
                  <a:srgbClr val="003d62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3904"/>
                </a:solidFill>
                <a:latin typeface="Tahoma"/>
              </a:rPr>
              <a:t>in Bezug auf effiziente Nutzung von Ressourcen, Produktionsweise und rationale Standortwahl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60" name=""/>
          <p:cNvSpPr/>
          <p:nvPr/>
        </p:nvSpPr>
        <p:spPr>
          <a:xfrm>
            <a:off x="1258920" y="3933720"/>
            <a:ext cx="66261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ed642"/>
                </a:solidFill>
                <a:latin typeface="Tahoma"/>
              </a:rPr>
              <a:t>Fortschrittskerne: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d642"/>
                </a:solidFill>
                <a:latin typeface="Tahoma"/>
              </a:rPr>
              <a:t>Existenz fortgeschrittener Gewerbe, allerdings regional beschränkt (Textil- und Eisengewerbe südlich der Ruhr, Niederrhein, Lausitz, Schlesien, Westfalen)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d642"/>
                </a:solidFill>
                <a:latin typeface="Tahoma"/>
              </a:rPr>
              <a:t>Abbau der Analphabetenrate in Preußen durch allgemeine Schulpflicht und Volksaufklärung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d642"/>
                </a:solidFill>
                <a:latin typeface="Tahoma"/>
              </a:rPr>
              <a:t>Disziplinierung der Arbeit durch Manufakturen (in erster Linie Preußen und Sachsen)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d642"/>
                </a:solidFill>
                <a:latin typeface="Tahoma"/>
              </a:rPr>
              <a:t>Tendenz zur Versachlichung bürokratischer Entscheidungen durch aufgeklärten Absolutismus 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61" name=""/>
          <p:cNvSpPr/>
          <p:nvPr/>
        </p:nvSpPr>
        <p:spPr>
          <a:xfrm>
            <a:off x="4284720" y="1197000"/>
            <a:ext cx="0" cy="1152360"/>
          </a:xfrm>
          <a:prstGeom prst="line">
            <a:avLst/>
          </a:prstGeom>
          <a:ln w="38160">
            <a:solidFill>
              <a:srgbClr val="1847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62" name=""/>
          <p:cNvSpPr/>
          <p:nvPr/>
        </p:nvSpPr>
        <p:spPr>
          <a:xfrm>
            <a:off x="2124000" y="1197000"/>
            <a:ext cx="1943280" cy="1079640"/>
          </a:xfrm>
          <a:prstGeom prst="line">
            <a:avLst/>
          </a:prstGeom>
          <a:ln w="38160">
            <a:solidFill>
              <a:srgbClr val="1847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63" name=""/>
          <p:cNvSpPr/>
          <p:nvPr/>
        </p:nvSpPr>
        <p:spPr>
          <a:xfrm>
            <a:off x="1763640" y="1773360"/>
            <a:ext cx="2087640" cy="576000"/>
          </a:xfrm>
          <a:prstGeom prst="line">
            <a:avLst/>
          </a:prstGeom>
          <a:ln w="38160">
            <a:solidFill>
              <a:srgbClr val="1847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64" name=""/>
          <p:cNvSpPr/>
          <p:nvPr/>
        </p:nvSpPr>
        <p:spPr>
          <a:xfrm>
            <a:off x="1332000" y="2349360"/>
            <a:ext cx="1079280" cy="216000"/>
          </a:xfrm>
          <a:prstGeom prst="line">
            <a:avLst/>
          </a:prstGeom>
          <a:ln w="38160">
            <a:solidFill>
              <a:srgbClr val="1847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4572000" y="1268280"/>
            <a:ext cx="1728720" cy="1008360"/>
          </a:xfrm>
          <a:prstGeom prst="line">
            <a:avLst/>
          </a:prstGeom>
          <a:ln w="38160">
            <a:solidFill>
              <a:srgbClr val="1847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4788000" y="1989000"/>
            <a:ext cx="1512720" cy="360360"/>
          </a:xfrm>
          <a:prstGeom prst="line">
            <a:avLst/>
          </a:prstGeom>
          <a:ln w="38160">
            <a:solidFill>
              <a:srgbClr val="1847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67" name=""/>
          <p:cNvSpPr/>
          <p:nvPr/>
        </p:nvSpPr>
        <p:spPr>
          <a:xfrm>
            <a:off x="4140360" y="3500280"/>
            <a:ext cx="502920" cy="4334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a3904"/>
          </a:solidFill>
          <a:ln w="38160">
            <a:solidFill>
              <a:srgbClr val="fa39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171E-3C08-434F-BB8E-AB85BC47E2B5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4F6E8B-2B31-4479-B091-65ECC9C28A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Überwindung der Rückständigkeit Deutschlands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907920"/>
            <a:ext cx="849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d62"/>
                </a:solidFill>
                <a:latin typeface="Tahoma"/>
              </a:rPr>
              <a:t>Bauernbefreiung in Preußen (1807-1811):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Gewährung der persönlichen Freiheit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Rationelle Bewirtschaftung durch Flurbereinigung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Pauperismus, Proletarisierung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Landflucht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324000" y="2421000"/>
            <a:ext cx="8569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d62"/>
                </a:solidFill>
                <a:latin typeface="Tahoma"/>
              </a:rPr>
              <a:t>Gewerbefreiheit 1810/11 – Liberalisierung der merkantilistischen Wirtschaftspolitik: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Weckung der Eigeninitiativ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Wettbewerb als marktregulierender Faktor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Schutzzolle zur Förderung der Inlandswirtschaft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Stärkung des gewerblichen Bürgertums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Entwicklung von Unternehmergeist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71" name=""/>
          <p:cNvSpPr/>
          <p:nvPr/>
        </p:nvSpPr>
        <p:spPr>
          <a:xfrm>
            <a:off x="324000" y="4508640"/>
            <a:ext cx="8569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d62"/>
                </a:solidFill>
                <a:latin typeface="Tahoma"/>
              </a:rPr>
              <a:t>Bildungsreform 1810 – Fortschritte im Bildungswesen: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Rückgang der Analphabetenrat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Bewußtsein der Bedeutsamkeit von Bildung für den individuellen Erfolg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Entwicklung und Förderung technischen „know-how“s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Staatliche Förderung der Weitergabe technischer Innovatione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Stattlich geförderte Industriespionag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Bildung als Prestigefaktor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52F3-8AF4-47BE-B304-3F1C6041EED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E9C709-FAEA-455C-87F4-9B1747E8BE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Überwindung der Rückständigkeit Deutschlands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73" name=""/>
          <p:cNvSpPr/>
          <p:nvPr/>
        </p:nvSpPr>
        <p:spPr>
          <a:xfrm>
            <a:off x="324000" y="1197000"/>
            <a:ext cx="849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d62"/>
                </a:solidFill>
                <a:latin typeface="Tahoma"/>
              </a:rPr>
              <a:t>Deutscher Zollverein 1834: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Einheitliches Wirtschaftsgebiet innerhalb des Zollvereins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Vergrößerung des Binnenmarktes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Einheitliche Außenwirtschaftspolitik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Steigerung der Konkurrenzfähigkeit durch Verbilligung der Ware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324000" y="2997360"/>
            <a:ext cx="856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d62"/>
                </a:solidFill>
                <a:latin typeface="Tahoma"/>
              </a:rPr>
              <a:t>Eisenbahnbau ab 1835: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Möglichkeit der Entstehung von Ost-West-Verbindunge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Verbilligung der Waren durch Reduzierung der Transportkosten und schnelleren Transports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Zusammenrücken des Wirtschatsgebietes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Rationelle Standortwahl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75" name=""/>
          <p:cNvSpPr/>
          <p:nvPr/>
        </p:nvSpPr>
        <p:spPr>
          <a:xfrm>
            <a:off x="324000" y="4797360"/>
            <a:ext cx="849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d62"/>
                </a:solidFill>
                <a:latin typeface="Tahoma"/>
              </a:rPr>
              <a:t>Preußisches Aktiengesetz 1843: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Finanzierung der Industrie durch Aktiengesellschafte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Beteiligung der Banken an der Finanzierung der Industri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6D70-2CD9-4F07-81CB-2136E8047FE7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AEFE30-1E2D-410A-9AF8-E2AE74118E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Überwindung der Rückständigkeit Deutschlands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77" name=""/>
          <p:cNvSpPr/>
          <p:nvPr/>
        </p:nvSpPr>
        <p:spPr>
          <a:xfrm>
            <a:off x="324000" y="1197000"/>
            <a:ext cx="273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Bauernbefreiung in Preuße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78" name=""/>
          <p:cNvSpPr/>
          <p:nvPr/>
        </p:nvSpPr>
        <p:spPr>
          <a:xfrm>
            <a:off x="3348000" y="1197000"/>
            <a:ext cx="302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Gewerbefreiheit – Liberalisierung der merkanti-listischen Wirtschaftspolitik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79" name=""/>
          <p:cNvSpPr/>
          <p:nvPr/>
        </p:nvSpPr>
        <p:spPr>
          <a:xfrm>
            <a:off x="6372360" y="1197000"/>
            <a:ext cx="27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Bildungsreform – Fort-schritte im Bildungswese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80" name=""/>
          <p:cNvSpPr/>
          <p:nvPr/>
        </p:nvSpPr>
        <p:spPr>
          <a:xfrm>
            <a:off x="324000" y="234936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Eisenbahnbau 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81" name=""/>
          <p:cNvSpPr/>
          <p:nvPr/>
        </p:nvSpPr>
        <p:spPr>
          <a:xfrm>
            <a:off x="324000" y="299736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Preußisches Aktiengesetz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82" name=""/>
          <p:cNvSpPr/>
          <p:nvPr/>
        </p:nvSpPr>
        <p:spPr>
          <a:xfrm>
            <a:off x="6877080" y="2421000"/>
            <a:ext cx="20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Deutscher Zollverei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83" name=""/>
          <p:cNvSpPr/>
          <p:nvPr/>
        </p:nvSpPr>
        <p:spPr>
          <a:xfrm>
            <a:off x="2843280" y="2421000"/>
            <a:ext cx="33843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d642"/>
                </a:solidFill>
                <a:latin typeface="Tahoma"/>
              </a:rPr>
              <a:t>INDUSTRIELLE REVOLUTION IN DEUTSCHLAND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Sehr schneller Augschwung nach der Take-off-Phase um 1850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Schrittmacherfunktion der Schwerindustrie 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Durchbruch der Dampfmaschine als Energieträger ermöglicht Fabriksystem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Entstehung von Großbetrieben mit vertikaler Verflechtung der Produktio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Verflechtung von Industrie- und Bankenkapital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84" name=""/>
          <p:cNvSpPr/>
          <p:nvPr/>
        </p:nvSpPr>
        <p:spPr>
          <a:xfrm>
            <a:off x="1692360" y="1628640"/>
            <a:ext cx="1942920" cy="72072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4356000" y="1989000"/>
            <a:ext cx="0" cy="43200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5076360" y="1773360"/>
            <a:ext cx="2374920" cy="57600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6084720" y="2565360"/>
            <a:ext cx="719280" cy="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88" name=""/>
          <p:cNvSpPr/>
          <p:nvPr/>
        </p:nvSpPr>
        <p:spPr>
          <a:xfrm>
            <a:off x="1763640" y="2565360"/>
            <a:ext cx="1152720" cy="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2268360" y="2781360"/>
            <a:ext cx="719280" cy="28728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74C2-A41A-4C0F-9159-B687B0213D93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FEDAA1-06E3-4F57-A48E-F20ECFA375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Verlauf der Industrialisierung in Deutschland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91" name=""/>
          <p:cNvSpPr/>
          <p:nvPr/>
        </p:nvSpPr>
        <p:spPr>
          <a:xfrm>
            <a:off x="1476360" y="1197000"/>
            <a:ext cx="61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d62"/>
                </a:solidFill>
                <a:latin typeface="Tahoma"/>
              </a:rPr>
              <a:t>Take-off-Phase ab 1850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d62"/>
                </a:solidFill>
                <a:latin typeface="Tahoma"/>
              </a:rPr>
              <a:t>Leitbranche Schwerindustrie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187280" y="270828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d62"/>
                </a:solidFill>
                <a:latin typeface="Tahoma"/>
              </a:rPr>
              <a:t>„</a:t>
            </a:r>
            <a:r>
              <a:rPr b="1" lang="en-US" sz="1800" spc="-1" strike="noStrike">
                <a:solidFill>
                  <a:srgbClr val="003d62"/>
                </a:solidFill>
                <a:latin typeface="Tahoma"/>
              </a:rPr>
              <a:t>In-Fahrt“-Phase ab 1871: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d62"/>
                </a:solidFill>
                <a:latin typeface="Tahoma"/>
              </a:rPr>
              <a:t>Leitbranche Maschinenbau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1187280" y="4221000"/>
            <a:ext cx="64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d62"/>
                </a:solidFill>
                <a:latin typeface="Tahoma"/>
              </a:rPr>
              <a:t>Hochindustrialisierung ab 1885: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d62"/>
                </a:solidFill>
                <a:latin typeface="Tahoma"/>
              </a:rPr>
              <a:t>Leitbranachen Elektrotechnik, Chemie, Nachrichtentechnik, Feinmechanik, Motorenbau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94" name=""/>
          <p:cNvSpPr/>
          <p:nvPr/>
        </p:nvSpPr>
        <p:spPr>
          <a:xfrm>
            <a:off x="4140360" y="1844640"/>
            <a:ext cx="647640" cy="720720"/>
          </a:xfrm>
          <a:prstGeom prst="downArrow">
            <a:avLst>
              <a:gd name="adj1" fmla="val 50000"/>
              <a:gd name="adj2" fmla="val 27821"/>
            </a:avLst>
          </a:prstGeom>
          <a:solidFill>
            <a:srgbClr val="ffffff"/>
          </a:solidFill>
          <a:ln w="38160">
            <a:solidFill>
              <a:srgbClr val="003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4140360" y="3429000"/>
            <a:ext cx="718920" cy="792000"/>
          </a:xfrm>
          <a:prstGeom prst="downArrow">
            <a:avLst>
              <a:gd name="adj1" fmla="val 50000"/>
              <a:gd name="adj2" fmla="val 27541"/>
            </a:avLst>
          </a:prstGeom>
          <a:solidFill>
            <a:srgbClr val="ffffff"/>
          </a:solidFill>
          <a:ln w="38160">
            <a:solidFill>
              <a:srgbClr val="003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80B3-5960-4ED6-827B-CBF5F3EEBAD4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78BFDC-0F57-47A3-A094-664918119C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4" dur="indefinite" restart="never" nodeType="tmRoot">
          <p:childTnLst>
            <p:seq>
              <p:cTn id="1375" dur="indefinite" nodeType="mainSeq">
                <p:childTnLst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Gesellschaftliche Strukturveränderungen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>
            <a:off x="1835280" y="9079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d62"/>
                </a:solidFill>
                <a:latin typeface="Tahoma"/>
              </a:rPr>
              <a:t>Bürger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98" name=""/>
          <p:cNvSpPr/>
          <p:nvPr/>
        </p:nvSpPr>
        <p:spPr>
          <a:xfrm>
            <a:off x="6804000" y="90792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99" name=""/>
          <p:cNvSpPr/>
          <p:nvPr/>
        </p:nvSpPr>
        <p:spPr>
          <a:xfrm>
            <a:off x="6659640" y="9079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d62"/>
                </a:solidFill>
                <a:latin typeface="Tahoma"/>
              </a:rPr>
              <a:t>Bauern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00" name=""/>
          <p:cNvSpPr/>
          <p:nvPr/>
        </p:nvSpPr>
        <p:spPr>
          <a:xfrm>
            <a:off x="1476360" y="126828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Gewerbefreiheit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01" name=""/>
          <p:cNvSpPr/>
          <p:nvPr/>
        </p:nvSpPr>
        <p:spPr>
          <a:xfrm>
            <a:off x="6372360" y="126828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Bauernbefreiung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02" name=""/>
          <p:cNvSpPr/>
          <p:nvPr/>
        </p:nvSpPr>
        <p:spPr>
          <a:xfrm>
            <a:off x="1547640" y="184464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Freie Berufswahl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03" name=""/>
          <p:cNvSpPr/>
          <p:nvPr/>
        </p:nvSpPr>
        <p:spPr>
          <a:xfrm>
            <a:off x="6084720" y="1844640"/>
            <a:ext cx="288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Ende der Heiratsbeschrän-kungen/Geburtenzuwachs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2637000"/>
            <a:ext cx="27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Frühindustrielle Fabrikarbeit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2916360" y="2637000"/>
            <a:ext cx="25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Arbeitslose Handwerker, Gesellen, Lehrling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3789360"/>
            <a:ext cx="27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Gewerbeschulen, Ausbildung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07" name=""/>
          <p:cNvSpPr/>
          <p:nvPr/>
        </p:nvSpPr>
        <p:spPr>
          <a:xfrm>
            <a:off x="2916360" y="378936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Handwerksproletariat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611280" y="515772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Spezialiste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3348000" y="51577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Facharbeiter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6588000" y="386064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Landproletariat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6659640" y="450864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Landflucht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12" name=""/>
          <p:cNvSpPr/>
          <p:nvPr/>
        </p:nvSpPr>
        <p:spPr>
          <a:xfrm>
            <a:off x="6516720" y="5157720"/>
            <a:ext cx="23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Ungelernte Arbeiter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13" name=""/>
          <p:cNvSpPr/>
          <p:nvPr/>
        </p:nvSpPr>
        <p:spPr>
          <a:xfrm>
            <a:off x="2268360" y="1557360"/>
            <a:ext cx="0" cy="28728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1115640" y="2133720"/>
            <a:ext cx="1152360" cy="50328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>
            <a:off x="2340000" y="2133720"/>
            <a:ext cx="1584360" cy="50328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>
            <a:off x="1187280" y="2997360"/>
            <a:ext cx="0" cy="71892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1187280" y="4149720"/>
            <a:ext cx="0" cy="100800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18" name=""/>
          <p:cNvSpPr/>
          <p:nvPr/>
        </p:nvSpPr>
        <p:spPr>
          <a:xfrm>
            <a:off x="3851280" y="3213000"/>
            <a:ext cx="0" cy="57636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19" name=""/>
          <p:cNvSpPr/>
          <p:nvPr/>
        </p:nvSpPr>
        <p:spPr>
          <a:xfrm>
            <a:off x="3851280" y="4149720"/>
            <a:ext cx="0" cy="100800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20" name=""/>
          <p:cNvSpPr/>
          <p:nvPr/>
        </p:nvSpPr>
        <p:spPr>
          <a:xfrm>
            <a:off x="7164360" y="1628640"/>
            <a:ext cx="0" cy="28764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21" name=""/>
          <p:cNvSpPr/>
          <p:nvPr/>
        </p:nvSpPr>
        <p:spPr>
          <a:xfrm>
            <a:off x="7164360" y="2492280"/>
            <a:ext cx="0" cy="136836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22" name=""/>
          <p:cNvSpPr/>
          <p:nvPr/>
        </p:nvSpPr>
        <p:spPr>
          <a:xfrm>
            <a:off x="7164360" y="4221000"/>
            <a:ext cx="0" cy="36036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23" name=""/>
          <p:cNvSpPr/>
          <p:nvPr/>
        </p:nvSpPr>
        <p:spPr>
          <a:xfrm>
            <a:off x="7164360" y="4869000"/>
            <a:ext cx="0" cy="28872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24" name=""/>
          <p:cNvSpPr/>
          <p:nvPr/>
        </p:nvSpPr>
        <p:spPr>
          <a:xfrm>
            <a:off x="395280" y="5805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d62"/>
                </a:solidFill>
                <a:latin typeface="Tahoma"/>
              </a:rPr>
              <a:t>Lohnarbeiter in der Fabrik als dem zentralen Ort der gesellschaftlichen Arbeit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25" name=""/>
          <p:cNvSpPr/>
          <p:nvPr/>
        </p:nvSpPr>
        <p:spPr>
          <a:xfrm>
            <a:off x="1187280" y="5516640"/>
            <a:ext cx="2448000" cy="36036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26" name=""/>
          <p:cNvSpPr/>
          <p:nvPr/>
        </p:nvSpPr>
        <p:spPr>
          <a:xfrm>
            <a:off x="3851280" y="5445000"/>
            <a:ext cx="0" cy="43200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4066920" y="5445000"/>
            <a:ext cx="3097080" cy="43200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B612-2C9A-46A8-ABE5-D7F3BCB7D6B2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0A6AF8-5DEB-42A4-8610-6DD4359FC4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2" dur="indefinite" restart="never" nodeType="tmRoot">
          <p:childTnLst>
            <p:seq>
              <p:cTn id="1413" dur="indefinite" nodeType="mainSeq">
                <p:childTnLst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Die Arbeiterschaft zur Zeit der Industrialisierung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1268280"/>
            <a:ext cx="31320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d62"/>
                </a:solidFill>
                <a:latin typeface="Tahoma"/>
              </a:rPr>
              <a:t>Arbeitsbedingungen: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Rigorose Disziplinierung am Arbeitsplatz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Überlange Arbeitszeite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Fehlende Sicherheitsvorkeh-rungen in den Fabrike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Ungesunde Arbeitsräum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Lohn am/unter dem Existenzminimum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Kein Kündigungsschutz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Frauen- und Kinderarbeit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Verschärfung der Konkurrenz durch ständiges Überangebot an Arbeitskräfte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Abhängigkeit der Arbeit von der Konjunktur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3132000" y="1268280"/>
            <a:ext cx="29527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d62"/>
                </a:solidFill>
                <a:latin typeface="Tahoma"/>
              </a:rPr>
              <a:t>Lebensbedingungen: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Leben in Elendsquartiere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Mangelnde Hygien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Verbreitung von Krankheiten und Seuche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Hohe Sterblichkeitsrat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Flucht in Alkohol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Auflösung der traditionellen Familienstruktur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Fehlende Unterrichtung und Ausbildung der Kinder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Identitätsverlust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6084720" y="1268280"/>
            <a:ext cx="2808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d62"/>
                </a:solidFill>
                <a:latin typeface="Tahoma"/>
              </a:rPr>
              <a:t>Soziale und rechtliche Stellung: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Individuelle Arbeitsverträg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Streikverbot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Koalitionsverbot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Politische Rechtlosigkeit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5516640"/>
            <a:ext cx="305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Warencharakter der Arbeit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Inhumane, entfremdete Arbeit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33" name=""/>
          <p:cNvSpPr/>
          <p:nvPr/>
        </p:nvSpPr>
        <p:spPr>
          <a:xfrm>
            <a:off x="3059280" y="5516640"/>
            <a:ext cx="28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Abwesenheit jeder sozialen Sicherheit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34" name=""/>
          <p:cNvSpPr/>
          <p:nvPr/>
        </p:nvSpPr>
        <p:spPr>
          <a:xfrm>
            <a:off x="6084720" y="5516640"/>
            <a:ext cx="288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Soziale und politische Deklassierung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2700360" y="6308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a3904"/>
                </a:solidFill>
                <a:latin typeface="Tahoma"/>
              </a:rPr>
              <a:t>SOZIALE FRAGE      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36" name=""/>
          <p:cNvSpPr/>
          <p:nvPr/>
        </p:nvSpPr>
        <p:spPr>
          <a:xfrm>
            <a:off x="1523880" y="5257800"/>
            <a:ext cx="0" cy="30492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37" name=""/>
          <p:cNvSpPr/>
          <p:nvPr/>
        </p:nvSpPr>
        <p:spPr>
          <a:xfrm>
            <a:off x="4267080" y="4419720"/>
            <a:ext cx="0" cy="114300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38" name=""/>
          <p:cNvSpPr/>
          <p:nvPr/>
        </p:nvSpPr>
        <p:spPr>
          <a:xfrm>
            <a:off x="7010280" y="2895480"/>
            <a:ext cx="0" cy="259092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39" name=""/>
          <p:cNvSpPr/>
          <p:nvPr/>
        </p:nvSpPr>
        <p:spPr>
          <a:xfrm>
            <a:off x="1523880" y="6095880"/>
            <a:ext cx="2667240" cy="22860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40" name=""/>
          <p:cNvSpPr/>
          <p:nvPr/>
        </p:nvSpPr>
        <p:spPr>
          <a:xfrm>
            <a:off x="4267080" y="6019920"/>
            <a:ext cx="0" cy="30456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4343040" y="6095880"/>
            <a:ext cx="2590920" cy="22860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B1BE-127E-4F33-B1D7-45FF2170B9B4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0B5329-7BF9-4BB8-837A-9FF22678AD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0" dur="indefinite" restart="never" nodeType="tmRoot">
          <p:childTnLst>
            <p:seq>
              <p:cTn id="1601" dur="indefinite" nodeType="mainSeq">
                <p:childTnLst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5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4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4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fill="hold">
                      <p:stCondLst>
                        <p:cond delay="indefinite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1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Faktoren der Industriellen Revolution in England Die Agrarrevolution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981000"/>
            <a:ext cx="435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Einhegungen (Acker -&gt; Weide, Aufteilung der Allmende, Flurbereinigung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1844640"/>
            <a:ext cx="41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Landkonzentration -&gt; Expansion des Großgrundbesitzes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2637000"/>
            <a:ext cx="4284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Intensivierung des Anbaus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Produktionssteigerung 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(Fruchtwechselwirtschaft, Bodenmelioration, Stallviehhaltung)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3933720"/>
            <a:ext cx="45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Arial"/>
              </a:rPr>
              <a:t>Steigerung der landwirtschaftlichen Gewinne -&gt;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Arial"/>
              </a:rPr>
              <a:t>Reinvestitionen, Anlage im Gewerb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4869000"/>
            <a:ext cx="43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Kapitalisierung der Landwirtschaft -&gt;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Landwirtschaft als Kapitalanlag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Unterstützung durch Grafschaftsbanke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6021360"/>
            <a:ext cx="42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sich selbst fortsetzendes Wachstum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652464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d62"/>
                </a:solidFill>
                <a:latin typeface="Arial"/>
              </a:rPr>
              <a:t>Kapitalakkumulation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4788000" y="981000"/>
            <a:ext cx="43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Verelendung der bäuerlichen Bevölkerung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4788000" y="1989000"/>
            <a:ext cx="435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Abhängigkeit/Abwanderung bisher selbständiger Kleinbauer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4859280" y="3068640"/>
            <a:ext cx="428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Sättigung der Nachfrag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Verbesserung der Ernährung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4932360" y="4292640"/>
            <a:ext cx="421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Arial"/>
              </a:rPr>
              <a:t>Sinken der Sterblichkeitsrate -&gt;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Arial"/>
              </a:rPr>
              <a:t>Geburtenüberschuß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4932360" y="645336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d62"/>
                </a:solidFill>
                <a:latin typeface="Arial"/>
              </a:rPr>
              <a:t>Arbeitskräftepotential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1835280" y="1557360"/>
            <a:ext cx="0" cy="287280"/>
          </a:xfrm>
          <a:prstGeom prst="line">
            <a:avLst/>
          </a:prstGeom>
          <a:ln w="255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4284720" y="1197000"/>
            <a:ext cx="431640" cy="0"/>
          </a:xfrm>
          <a:prstGeom prst="line">
            <a:avLst/>
          </a:prstGeom>
          <a:ln w="255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1835280" y="2349360"/>
            <a:ext cx="0" cy="287640"/>
          </a:xfrm>
          <a:prstGeom prst="line">
            <a:avLst/>
          </a:prstGeom>
          <a:ln w="255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1835280" y="3573360"/>
            <a:ext cx="0" cy="360360"/>
          </a:xfrm>
          <a:prstGeom prst="line">
            <a:avLst/>
          </a:prstGeom>
          <a:ln w="255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1835280" y="4579920"/>
            <a:ext cx="0" cy="287280"/>
          </a:xfrm>
          <a:prstGeom prst="line">
            <a:avLst/>
          </a:prstGeom>
          <a:ln w="255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1835280" y="5734080"/>
            <a:ext cx="0" cy="287280"/>
          </a:xfrm>
          <a:prstGeom prst="line">
            <a:avLst/>
          </a:prstGeom>
          <a:ln w="255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6443640" y="1268280"/>
            <a:ext cx="0" cy="648000"/>
          </a:xfrm>
          <a:prstGeom prst="line">
            <a:avLst/>
          </a:prstGeom>
          <a:ln w="255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4211640" y="3357720"/>
            <a:ext cx="576360" cy="0"/>
          </a:xfrm>
          <a:prstGeom prst="line">
            <a:avLst/>
          </a:prstGeom>
          <a:ln w="255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6443640" y="3645000"/>
            <a:ext cx="0" cy="647640"/>
          </a:xfrm>
          <a:prstGeom prst="line">
            <a:avLst/>
          </a:prstGeom>
          <a:ln w="255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1835280" y="6381720"/>
            <a:ext cx="0" cy="142920"/>
          </a:xfrm>
          <a:prstGeom prst="line">
            <a:avLst/>
          </a:prstGeom>
          <a:ln w="507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6443640" y="4941720"/>
            <a:ext cx="0" cy="1440000"/>
          </a:xfrm>
          <a:prstGeom prst="line">
            <a:avLst/>
          </a:prstGeom>
          <a:ln w="507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D9D4-C98C-46FB-A2DE-5057A01DB66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128AE9-9650-43AE-8773-95EC14C0FC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ahoma"/>
              </a:rPr>
              <a:t>Faktoren der Industrialisierung in England</a:t>
            </a:r>
            <a:endParaRPr b="0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6922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d62"/>
                </a:solidFill>
                <a:latin typeface="Arial"/>
              </a:rPr>
              <a:t>Bevölkerungswachstum: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Arial"/>
              </a:rPr>
              <a:t>Geburtenüberschuß, niedrige Sterberat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13413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d62"/>
                </a:solidFill>
                <a:latin typeface="Arial"/>
              </a:rPr>
              <a:t>Agrarrevolution: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Qualitative und quantitative Steigerung des Nahrungsmittelangebots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206064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d62"/>
                </a:solidFill>
                <a:latin typeface="Arial"/>
              </a:rPr>
              <a:t>Geographische Voraussetzungen: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Kanalsystem und Flüsse ermöglichen Warentransport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Große Rohstoffvorkommen (Kohle)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Gute klimatische Bedingungen für Schafzucht (Wolle)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3213000"/>
            <a:ext cx="9144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d62"/>
                </a:solidFill>
                <a:latin typeface="Arial"/>
              </a:rPr>
              <a:t>Politische Grundlagen: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Arial"/>
              </a:rPr>
              <a:t>Einheitlicher Binnenmarkt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Arial"/>
              </a:rPr>
              <a:t>Unterordnung der Politik unter die ökonomischen Interessen der Volkswirtschaft: Kriege zur Ausschaltung der Handelskonkurrenten, indirekte Förderung der Eisenindustrie und des Schiffsbaus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Arial"/>
              </a:rPr>
              <a:t>Vertretung der ökonomisch führenden Schichten im Parlament sichert deren Einfluß auf politische Entscheidunge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Arial"/>
              </a:rPr>
              <a:t>Eigentums- und Rechtssicherheit seit 1689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Arial"/>
              </a:rPr>
              <a:t>Monopolstellung als See-, Kolonial- und Handelsmacht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Arial"/>
              </a:rPr>
              <a:t>Import billiger Rohstoffe aus den Kolonien und Kolonien als Absatzmarkt für Export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587700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d62"/>
                </a:solidFill>
                <a:latin typeface="Arial"/>
              </a:rPr>
              <a:t>Gesellschaftsstruktur: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Schichtengesellschaft mit vertikaler Mobilität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Prestige beruht auf wirtschaftlichem Erfolg und Bildung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Gemeinsame Interessen von Grundbesitzern und Kapitalbesitzer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A250-1B2C-4199-90A5-DAE767D269C9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497F13-06EE-4F0C-81E1-20EEC28049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Faktoren der Industrialisierung in England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765000"/>
            <a:ext cx="8964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d62"/>
                </a:solidFill>
                <a:latin typeface="Arial"/>
              </a:rPr>
              <a:t>Calvinistische Erwerbsethik: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Arial"/>
              </a:rPr>
              <a:t>Arbeit = Gottes Wille (Berufspflicht)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Arial"/>
              </a:rPr>
              <a:t>Erfolg und Reichtum zeigen das Auserwähltsein (Prädestinationslehre)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Arial"/>
              </a:rPr>
              <a:t>Genuss ist Sünd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Arial"/>
              </a:rPr>
              <a:t>Armit zeugt von mangelndem Arbeitswillen und zeugt von fehlendem Auserwähltsei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Arial"/>
              </a:rPr>
              <a:t>=&gt; Legitimation des Profitdenkens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2781360"/>
            <a:ext cx="914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d62"/>
                </a:solidFill>
                <a:latin typeface="Arial"/>
              </a:rPr>
              <a:t>Wirtschaftsliberalismus (kapitalistische Wirtschaftsideologie):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Arial"/>
              </a:rPr>
              <a:t>Arbeitsteilung und Spezialisierung begünstigen Produktivität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Arial"/>
              </a:rPr>
              <a:t>Profitorientierung: Ziel hoher Gewinne und Kapitalvermehrung durch Reinvestitione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Arial"/>
              </a:rPr>
              <a:t>Banken als Faktor des Kapitaltransfers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Arial"/>
              </a:rPr>
              <a:t>Volkswirtschaft prosperiert aufgrund des individuellen Profitstrebens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Arial"/>
              </a:rPr>
              <a:t>Keine Einmischung des Staates in die Wirtschaft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Arial"/>
              </a:rPr>
              <a:t>Keine Im- und Exportzölle (Freihandel)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Arial"/>
              </a:rPr>
              <a:t>Beschränkung des Staates auf nicht profitable Bereiche (Verteidigung, Infrastruktur, Justiz, Bildung, Gesundheit) 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5516640"/>
            <a:ext cx="914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d62"/>
                </a:solidFill>
                <a:latin typeface="Arial"/>
              </a:rPr>
              <a:t>Bildung: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Umsetzung naturwissenschaftlicher Forschung durch Gewerb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Schnelle Übernahme ausländischer Methoden und Innovatione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Erzeugen Erfindungen und Unternehmergeist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Schlüsselerfindung Dampfmaschin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2C6E-604E-45B1-B589-7D23EAE40DB4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0481F2-BDA7-4AE6-AC17-C028CF4893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ahoma"/>
              </a:rPr>
              <a:t>Faktoren der Industrialisierung in England</a:t>
            </a:r>
            <a:endParaRPr b="0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1197000"/>
            <a:ext cx="28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47de"/>
                </a:solidFill>
                <a:latin typeface="Arial"/>
              </a:rPr>
              <a:t>Calvinistische Erwerbsethik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364500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47de"/>
                </a:solidFill>
                <a:latin typeface="Arial"/>
              </a:rPr>
              <a:t>Wirtschaftsliberalismus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58770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47de"/>
                </a:solidFill>
                <a:latin typeface="Arial"/>
              </a:rPr>
              <a:t>Bildung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6084720" y="765000"/>
            <a:ext cx="30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47de"/>
                </a:solidFill>
                <a:latin typeface="Arial"/>
              </a:rPr>
              <a:t>Bevölkerungswachstum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89" name=""/>
          <p:cNvSpPr/>
          <p:nvPr/>
        </p:nvSpPr>
        <p:spPr>
          <a:xfrm>
            <a:off x="6084720" y="1989000"/>
            <a:ext cx="30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47de"/>
                </a:solidFill>
                <a:latin typeface="Arial"/>
              </a:rPr>
              <a:t>Agrarrevolution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6084720" y="3213000"/>
            <a:ext cx="30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47de"/>
                </a:solidFill>
                <a:latin typeface="Arial"/>
              </a:rPr>
              <a:t>Geographische Voraussetzungen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6084720" y="5805360"/>
            <a:ext cx="30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47de"/>
                </a:solidFill>
                <a:latin typeface="Arial"/>
              </a:rPr>
              <a:t>Politische Grundlagen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92" name=""/>
          <p:cNvSpPr/>
          <p:nvPr/>
        </p:nvSpPr>
        <p:spPr>
          <a:xfrm>
            <a:off x="3276720" y="5805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47de"/>
                </a:solidFill>
                <a:latin typeface="Arial"/>
              </a:rPr>
              <a:t>Gesellschaftsstruktur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93" name=""/>
          <p:cNvSpPr/>
          <p:nvPr/>
        </p:nvSpPr>
        <p:spPr>
          <a:xfrm>
            <a:off x="3059280" y="1341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3904"/>
                </a:solidFill>
                <a:latin typeface="Arial"/>
              </a:rPr>
              <a:t>Arbeitskräftepotential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94" name=""/>
          <p:cNvSpPr/>
          <p:nvPr/>
        </p:nvSpPr>
        <p:spPr>
          <a:xfrm>
            <a:off x="2987640" y="22050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d642"/>
                </a:solidFill>
                <a:latin typeface="Arial"/>
              </a:rPr>
              <a:t>INDUSTRIELLE REVOLUTION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3059280" y="350028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3904"/>
                </a:solidFill>
                <a:latin typeface="Arial"/>
              </a:rPr>
              <a:t>Kapitalakkumulation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7020000" y="1125360"/>
            <a:ext cx="0" cy="863640"/>
          </a:xfrm>
          <a:prstGeom prst="line">
            <a:avLst/>
          </a:prstGeom>
          <a:ln w="38160">
            <a:solidFill>
              <a:srgbClr val="1847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7308720" y="2421000"/>
            <a:ext cx="0" cy="792000"/>
          </a:xfrm>
          <a:prstGeom prst="line">
            <a:avLst/>
          </a:prstGeom>
          <a:ln w="38160">
            <a:solidFill>
              <a:srgbClr val="1847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7308720" y="1125000"/>
            <a:ext cx="0" cy="790920"/>
          </a:xfrm>
          <a:prstGeom prst="line">
            <a:avLst/>
          </a:prstGeom>
          <a:ln w="38160">
            <a:solidFill>
              <a:srgbClr val="1847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99" name=""/>
          <p:cNvSpPr/>
          <p:nvPr/>
        </p:nvSpPr>
        <p:spPr>
          <a:xfrm>
            <a:off x="611280" y="1844640"/>
            <a:ext cx="0" cy="1800360"/>
          </a:xfrm>
          <a:prstGeom prst="line">
            <a:avLst/>
          </a:prstGeom>
          <a:ln w="38160">
            <a:solidFill>
              <a:srgbClr val="1847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611280" y="4149720"/>
            <a:ext cx="0" cy="1727280"/>
          </a:xfrm>
          <a:prstGeom prst="line">
            <a:avLst/>
          </a:prstGeom>
          <a:ln w="38160">
            <a:solidFill>
              <a:srgbClr val="1847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01" name=""/>
          <p:cNvSpPr/>
          <p:nvPr/>
        </p:nvSpPr>
        <p:spPr>
          <a:xfrm>
            <a:off x="1042920" y="6021360"/>
            <a:ext cx="2089080" cy="0"/>
          </a:xfrm>
          <a:prstGeom prst="line">
            <a:avLst/>
          </a:prstGeom>
          <a:ln w="38160">
            <a:solidFill>
              <a:srgbClr val="1847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971640" y="6237360"/>
            <a:ext cx="2016000" cy="0"/>
          </a:xfrm>
          <a:prstGeom prst="line">
            <a:avLst/>
          </a:prstGeom>
          <a:ln w="38160">
            <a:solidFill>
              <a:srgbClr val="1847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5651640" y="6021360"/>
            <a:ext cx="433080" cy="0"/>
          </a:xfrm>
          <a:prstGeom prst="line">
            <a:avLst/>
          </a:prstGeom>
          <a:ln w="38160">
            <a:solidFill>
              <a:srgbClr val="1847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1547280" y="4149720"/>
            <a:ext cx="2087640" cy="1727280"/>
          </a:xfrm>
          <a:prstGeom prst="line">
            <a:avLst/>
          </a:prstGeom>
          <a:ln w="38160">
            <a:solidFill>
              <a:srgbClr val="1847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2268360" y="4076640"/>
            <a:ext cx="4175280" cy="1728720"/>
          </a:xfrm>
          <a:prstGeom prst="line">
            <a:avLst/>
          </a:prstGeom>
          <a:ln w="38160">
            <a:solidFill>
              <a:srgbClr val="1847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2484360" y="4005360"/>
            <a:ext cx="4175280" cy="1728720"/>
          </a:xfrm>
          <a:prstGeom prst="line">
            <a:avLst/>
          </a:prstGeom>
          <a:ln w="38160">
            <a:solidFill>
              <a:srgbClr val="1847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4427280" y="981000"/>
            <a:ext cx="1657080" cy="360360"/>
          </a:xfrm>
          <a:prstGeom prst="line">
            <a:avLst/>
          </a:prstGeom>
          <a:ln w="38160">
            <a:solidFill>
              <a:srgbClr val="fa39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4427280" y="1700280"/>
            <a:ext cx="1584360" cy="504720"/>
          </a:xfrm>
          <a:prstGeom prst="line">
            <a:avLst/>
          </a:prstGeom>
          <a:ln w="38160">
            <a:solidFill>
              <a:srgbClr val="fa39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4500720" y="2349360"/>
            <a:ext cx="1511280" cy="1150920"/>
          </a:xfrm>
          <a:prstGeom prst="line">
            <a:avLst/>
          </a:prstGeom>
          <a:ln w="38160">
            <a:solidFill>
              <a:srgbClr val="fa39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4571640" y="3860640"/>
            <a:ext cx="2376360" cy="1944720"/>
          </a:xfrm>
          <a:prstGeom prst="line">
            <a:avLst/>
          </a:prstGeom>
          <a:ln w="38160">
            <a:solidFill>
              <a:srgbClr val="fa39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2556000" y="3715920"/>
            <a:ext cx="576000" cy="73080"/>
          </a:xfrm>
          <a:prstGeom prst="line">
            <a:avLst/>
          </a:prstGeom>
          <a:ln w="38160">
            <a:solidFill>
              <a:srgbClr val="fa39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1476360" y="1557360"/>
            <a:ext cx="1871640" cy="2016000"/>
          </a:xfrm>
          <a:prstGeom prst="line">
            <a:avLst/>
          </a:prstGeom>
          <a:ln w="38160">
            <a:solidFill>
              <a:srgbClr val="fa39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13" name=""/>
          <p:cNvSpPr/>
          <p:nvPr/>
        </p:nvSpPr>
        <p:spPr>
          <a:xfrm>
            <a:off x="3995640" y="1700280"/>
            <a:ext cx="0" cy="576360"/>
          </a:xfrm>
          <a:prstGeom prst="line">
            <a:avLst/>
          </a:prstGeom>
          <a:ln w="38160">
            <a:solidFill>
              <a:srgbClr val="2ed6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3995640" y="2781000"/>
            <a:ext cx="0" cy="718920"/>
          </a:xfrm>
          <a:prstGeom prst="line">
            <a:avLst/>
          </a:prstGeom>
          <a:ln w="38160">
            <a:solidFill>
              <a:srgbClr val="2ed6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A1DF-7B54-4432-8928-80EBE629A386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892B66-B410-46E7-83F5-9A149B6D8E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Verlauf der Industriellen Revolution in England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692280"/>
            <a:ext cx="27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1733 verbesserte Webmaschin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1484280"/>
            <a:ext cx="25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1769 Spinnmaschin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6084720" y="692280"/>
            <a:ext cx="305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1735 Koks aus Steinkohl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19" name=""/>
          <p:cNvSpPr/>
          <p:nvPr/>
        </p:nvSpPr>
        <p:spPr>
          <a:xfrm>
            <a:off x="3059280" y="1484280"/>
            <a:ext cx="26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1769 Dampfmaschin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6084720" y="1413000"/>
            <a:ext cx="305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1766 Erzverhüttung mit Kohl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6084720" y="2133720"/>
            <a:ext cx="305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Arial"/>
              </a:rPr>
              <a:t>1784 Puddelverfahre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299736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d62"/>
                </a:solidFill>
                <a:latin typeface="Arial"/>
              </a:rPr>
              <a:t>Arbeitsmaschine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23" name=""/>
          <p:cNvSpPr/>
          <p:nvPr/>
        </p:nvSpPr>
        <p:spPr>
          <a:xfrm>
            <a:off x="3059280" y="292428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d62"/>
                </a:solidFill>
                <a:latin typeface="Arial"/>
              </a:rPr>
              <a:t>Kraftmaschine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6084720" y="2852640"/>
            <a:ext cx="30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d62"/>
                </a:solidFill>
                <a:latin typeface="Arial"/>
              </a:rPr>
              <a:t>Verbesserung der Produktionsverfahren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25" name=""/>
          <p:cNvSpPr/>
          <p:nvPr/>
        </p:nvSpPr>
        <p:spPr>
          <a:xfrm>
            <a:off x="539640" y="393372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1785 Spinnmaschine mit Dampfantrieb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26" name=""/>
          <p:cNvSpPr/>
          <p:nvPr/>
        </p:nvSpPr>
        <p:spPr>
          <a:xfrm>
            <a:off x="4788000" y="4292640"/>
            <a:ext cx="331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1807 Dampfschiff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Arial"/>
              </a:rPr>
              <a:t>1814 Lokomotiv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1835280" y="544500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d62"/>
                </a:solidFill>
                <a:latin typeface="Arial"/>
              </a:rPr>
              <a:t>Durchbruch der industriellen Produktionsweise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d62"/>
                </a:solidFill>
                <a:latin typeface="Arial"/>
              </a:rPr>
              <a:t>(mechanisierte, arbeitsteilige Produktion)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28" name=""/>
          <p:cNvSpPr/>
          <p:nvPr/>
        </p:nvSpPr>
        <p:spPr>
          <a:xfrm>
            <a:off x="1835280" y="645336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d62"/>
                </a:solidFill>
                <a:latin typeface="Arial"/>
              </a:rPr>
              <a:t>Sprunghaft ansteigende Produktionsziffern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1042920" y="3284640"/>
            <a:ext cx="1152720" cy="64908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2484360" y="3284640"/>
            <a:ext cx="1224000" cy="64908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3851280" y="3284640"/>
            <a:ext cx="1657440" cy="100800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5796000" y="3429000"/>
            <a:ext cx="1224000" cy="86364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33" name=""/>
          <p:cNvSpPr/>
          <p:nvPr/>
        </p:nvSpPr>
        <p:spPr>
          <a:xfrm>
            <a:off x="3924360" y="4941720"/>
            <a:ext cx="64764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38160">
            <a:solidFill>
              <a:srgbClr val="003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34" name=""/>
          <p:cNvSpPr/>
          <p:nvPr/>
        </p:nvSpPr>
        <p:spPr>
          <a:xfrm>
            <a:off x="4067280" y="6093000"/>
            <a:ext cx="43344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38160">
            <a:solidFill>
              <a:srgbClr val="003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B0EB-DBF0-42F6-B7BA-96420E8BE06F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219C1F-5DA0-4AA8-8284-4B69D336D3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Verlauf der Industriellen Revolution in England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292428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d62"/>
                </a:solidFill>
                <a:latin typeface="Arial"/>
              </a:rPr>
              <a:t>Textilindustrie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>
            <a:off x="2771640" y="270828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d62"/>
                </a:solidFill>
                <a:latin typeface="Arial"/>
              </a:rPr>
              <a:t>Nachfrage</a:t>
            </a:r>
            <a:endParaRPr b="0" lang="en-US" sz="1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6156360" y="2781360"/>
            <a:ext cx="29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d62"/>
                </a:solidFill>
                <a:latin typeface="Arial"/>
              </a:rPr>
              <a:t>Schwerindustrie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d62"/>
                </a:solidFill>
                <a:latin typeface="Arial"/>
              </a:rPr>
              <a:t>(Produktionsgüter)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39" name=""/>
          <p:cNvSpPr/>
          <p:nvPr/>
        </p:nvSpPr>
        <p:spPr>
          <a:xfrm>
            <a:off x="6156360" y="4653000"/>
            <a:ext cx="29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d62"/>
                </a:solidFill>
                <a:latin typeface="Arial"/>
              </a:rPr>
              <a:t>Eisenbahnindustrie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d62"/>
                </a:solidFill>
                <a:latin typeface="Arial"/>
              </a:rPr>
              <a:t>(Transportmittel)</a:t>
            </a:r>
            <a:endParaRPr b="0" lang="en-US" sz="1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40" name=""/>
          <p:cNvSpPr/>
          <p:nvPr/>
        </p:nvSpPr>
        <p:spPr>
          <a:xfrm>
            <a:off x="1835280" y="3141720"/>
            <a:ext cx="3962160" cy="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41" name=""/>
          <p:cNvSpPr/>
          <p:nvPr/>
        </p:nvSpPr>
        <p:spPr>
          <a:xfrm>
            <a:off x="1835280" y="3284640"/>
            <a:ext cx="4249440" cy="151272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7093080" y="3429000"/>
            <a:ext cx="0" cy="1152360"/>
          </a:xfrm>
          <a:prstGeom prst="line">
            <a:avLst/>
          </a:prstGeom>
          <a:ln w="38160">
            <a:solidFill>
              <a:srgbClr val="003d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D079-76B6-4625-9237-9EC4900F7CB9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EE409A-748D-4B0C-8807-ABE6C0D9B3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Die deutsche Ausgangssituation um 1800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324000" y="620640"/>
            <a:ext cx="871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d62"/>
                </a:solidFill>
                <a:latin typeface="Tahoma"/>
              </a:rPr>
              <a:t>Politische Faktoren: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Partikularismus -&gt; kleine Märkte, Handelsbeschränkungen durch zahlreiche Zollgrenze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Absolutismus -&gt; obrigkeitsstaatliches Denken, Fehlen eines selbstbewußten und wirtschaftlich starken Bürgertums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Aufgeklärter Absolutismus (Preußen) -&gt; Vermeiden von innovationsfördernden und revolutionären Spannunge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45" name=""/>
          <p:cNvSpPr/>
          <p:nvPr/>
        </p:nvSpPr>
        <p:spPr>
          <a:xfrm>
            <a:off x="324000" y="2421000"/>
            <a:ext cx="8712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d62"/>
                </a:solidFill>
                <a:latin typeface="Tahoma"/>
              </a:rPr>
              <a:t>Feudale Ständegesellschaft: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Gutsuntertänigkeit der Bauern (v.a. östlich der Elbe)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Zunftbindunge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Privilegien der ersten beiden Ständ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Produktionssteigerung erfolgt über die Intensivierung der feudalen Abhängigkeite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Fehlende Mobilität der Untertane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d62"/>
                </a:solidFill>
                <a:latin typeface="Tahoma"/>
              </a:rPr>
              <a:t>Erstarrung der gesellschaftlichen Strukture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46" name=""/>
          <p:cNvSpPr/>
          <p:nvPr/>
        </p:nvSpPr>
        <p:spPr>
          <a:xfrm>
            <a:off x="324000" y="4365720"/>
            <a:ext cx="871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d62"/>
                </a:solidFill>
                <a:latin typeface="Tahoma"/>
              </a:rPr>
              <a:t>Bildungswesen: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Einseitige Ausrichtung der Bildung im herrschaftsstabilisierenden Sinn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Mangelnde technische Bildung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Innovationsunfähigkeit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>
            <a:off x="324000" y="5589720"/>
            <a:ext cx="882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d62"/>
                </a:solidFill>
                <a:latin typeface="Tahoma"/>
              </a:rPr>
              <a:t>Mentalität: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Sicherheitsbedürfnis aufgrund von Kriegserfahrunge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8C22-C220-4212-9509-8F4E10CE8EAD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8C7A83-068A-451A-9174-F8108243C6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ahoma"/>
              </a:rPr>
              <a:t>Die deutsche Ausgangssituation um 1800</a:t>
            </a:r>
            <a:endParaRPr b="0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49" name=""/>
          <p:cNvSpPr/>
          <p:nvPr/>
        </p:nvSpPr>
        <p:spPr>
          <a:xfrm>
            <a:off x="250920" y="1197000"/>
            <a:ext cx="8569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d62"/>
                </a:solidFill>
                <a:latin typeface="Tahoma"/>
              </a:rPr>
              <a:t>Merkantilismus als vorherrschende Wirtschaftspolitik: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Zollschranke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Protektionismus (Ein- und Ausfuhrverbote zur Stärkung der Wirtschaft der jeweiligen Kleinstaaten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Hoher Staatsanteil bei der Verwendung des Bruttosozialprodukts für repräsentative Zweck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Fehlen von Eigeninitiativ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50" name=""/>
          <p:cNvSpPr/>
          <p:nvPr/>
        </p:nvSpPr>
        <p:spPr>
          <a:xfrm>
            <a:off x="324000" y="3213000"/>
            <a:ext cx="856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d62"/>
                </a:solidFill>
                <a:latin typeface="Tahoma"/>
              </a:rPr>
              <a:t>Geographische Lage/Handel: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Schwach entwickeltes Verkehrsnetz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Behinderung der Ost-West-Verbindungen durch Mittelgebirg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Seehandelsnachteile (Wattenmeere)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Fehlen kolonialer Importe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d62"/>
                </a:solidFill>
                <a:latin typeface="Tahoma"/>
              </a:rPr>
              <a:t>Zwischenhandelsabhängigkeit</a:t>
            </a:r>
            <a:endParaRPr b="0" lang="en-US" sz="16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FB34-DFEC-4924-B248-C303ACB1CCB9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F52F27-F5B3-48FC-92C1-22013DBFAB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09:58:02Z</dcterms:created>
  <dc:creator>D.Ammermann</dc:creator>
  <dc:description/>
  <dc:language>en-US</dc:language>
  <cp:lastModifiedBy> </cp:lastModifiedBy>
  <dcterms:modified xsi:type="dcterms:W3CDTF">2008-02-19T19:42:37Z</dcterms:modified>
  <cp:revision>14</cp:revision>
  <dc:subject/>
  <dc:title>Industrialisieru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871031</vt:lpwstr>
  </property>
</Properties>
</file>