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128-9C83-4D7C-B8FB-B63C2142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7D5-0B3C-4BC6-AAF3-7502F28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7A6-3A6F-44DD-AE8B-C0F0EB68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DC4-E185-499B-B3C6-2328B700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7EE-41C9-4A3C-8527-16EE379C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1041-F5B5-40CE-9518-E3BB361C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C611-B816-4C67-A4C0-9E337A6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B076-A4F4-4A96-AF31-79A827C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E32-8DD6-4AE3-A3E2-C584577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E9B-46DA-44D9-95C5-65EDD31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AFD6-AB81-4CF6-BF70-C81E2C3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040-EB5F-4917-B226-915D7180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78EB-8D84-4BD4-8E4D-C739CE9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D1B-A7E7-4D2B-B5BB-E472F13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50D-2F00-40DF-A684-2F094C9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01D8-BD92-4702-B1C0-4F46A1DF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E941-B77E-4288-B5DC-A851CC35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C01-D8F5-4129-A428-9D4C30A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EF0-7FA0-4D7C-9318-91BBF60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276-F2AA-407A-88CC-763A2A22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753-FEB4-494A-923C-32DE597B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FD2-B750-4DD6-A4CD-AF4E892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C7F-0BD9-4CD8-A240-8596E8DF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C08-896C-4326-98C2-5B05FF6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ac0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5B9-380F-4883-98F4-28DD5B6E0759}" type="datetime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A2496AC8-89FF-4E6B-A3BE-D3896FCAF294}" type="slidenum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b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23F6-3BD2-4A2B-BE48-9DB70ECBFA16}" type="datetime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40C84D94-CA64-4A18-B851-4DB87D833680}" type="slidenum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ac0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1a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Industrialisierung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Deutschlan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Die deutsche Ausgangssituation um 1800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9079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Politische Fakto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55736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Bildungswes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21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Mental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132000" y="9079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Feudale Ständegesell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6300720" y="83664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Merkantilismus als vorherrschende 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659640" y="1916280"/>
            <a:ext cx="24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300720" y="1844640"/>
            <a:ext cx="28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Geographische Lage/ Hande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2421000"/>
            <a:ext cx="4248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Tahoma"/>
              </a:rPr>
              <a:t>RÜCKSTÄNDIGKEIT DEUTSCHLANDS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3904"/>
                </a:solidFill>
                <a:latin typeface="Tahoma"/>
              </a:rPr>
              <a:t>in Bezug auf effiziente Nutzung von Ressourcen, Produktionsweise und rationale Standort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3933720"/>
            <a:ext cx="6626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d642"/>
                </a:solidFill>
                <a:latin typeface="Tahoma"/>
              </a:rPr>
              <a:t>Fortschrittskerne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Existenz fortgeschrittener Gewerbe, allerdings regional beschränkt (Textil- und Eisengewerbe südlich der Ruhr, Niederrhein, Lausitz, Schlesien, Westfalen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Abbau der Analphabetenrate in Preußen durch allgemeine Schulpflicht und Volksaufklä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Disziplinierung der Arbeit durch Manufakturen (in erster Linie Preußen und Sachsen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Tendenz zur Versachlichung bürokratischer Entscheidungen durch aufgeklärten Absolutismus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4284720" y="1197000"/>
            <a:ext cx="0" cy="1152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1197000"/>
            <a:ext cx="1943280" cy="107964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1773360"/>
            <a:ext cx="2087640" cy="576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349360"/>
            <a:ext cx="1079280" cy="216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572000" y="1268280"/>
            <a:ext cx="1728720" cy="1008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88000" y="1989000"/>
            <a:ext cx="1512720" cy="360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3500280"/>
            <a:ext cx="502920" cy="4334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a3904"/>
          </a:solidFill>
          <a:ln w="38160">
            <a:solidFill>
              <a:srgbClr val="fa3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665-22CE-4A81-85FF-9C785EA1F32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0403-3EF4-4D45-B1B1-C6A29301B7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907920"/>
            <a:ext cx="84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Bauernbefreiung in Preußen (1807-1811)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ewährung der persönlichen Frei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ationelle Bewirtschaftung durch Flurbereinig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auperismus, Proletarisi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Landflu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Gewerbefreiheit 1810/11 – Liberalisierung der merkantilistischen Wirtschaftspolit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Weckung der Eigeninitia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Wettbewerb als marktregulierender Fakto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chutzzolle zur Förderung der Inlandswirt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ärkung des gewerblichen Bürgertum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twicklung von Unternehmergei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450864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Bildungsreform 1810 – Fortschritte im Bildungswes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ückgang der Analphabeten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Bewußtsein der Bedeutsamkeit von Bildung für den individuellen Erfol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twicklung und Förderung technischen „know-how“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aatliche Förderung der Weitergabe technischer Innova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attlich geförderte Industriespion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Bildung als Prestigefakto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FCB-C2E8-42A6-BE9B-4B870B299F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EF712-95DD-47E6-B652-6BDE435B47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1197000"/>
            <a:ext cx="84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Deutscher Zollverein 1834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heitliches Wirtschaftsgebiet innerhalb des Zollverei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größerung des Binnenmarkt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heitliche Außen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teigerung der Konkurrenzfähigkeit durch Verbilligung der Wa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99736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Eisenbahnbau ab 1835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Möglichkeit der Entstehung von Ost-West-Verbin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Verbilligung der Waren durch Reduzierung der Transportkosten und schnelleren Transport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Zusammenrücken des Wirtschatsgebiet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ationelle Standort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479736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Preußisches Aktiengesetz 1843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inanzierung der Industrie durch Aktiengesellschaf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eteiligung der Banken an der Finanzierung der Industri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9E3-772A-4C16-A263-715C511845A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57609-39DB-4CEF-B090-F2C40F320A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324000" y="119700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auernbefreiung in Preuß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348000" y="1197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ewerbefreiheit – Liberalisierung der merkanti-listischen 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119700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ildungsreform – Fort-schritte im Bildungswes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2349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senbahnbau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2997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reußisches Aktiengese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6877080" y="242100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Deutscher Zollverei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2421000"/>
            <a:ext cx="338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INDUSTRIELLE REVOLUTION IN DEUTSCHLAND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ehr schneller Augschwung nach der Take-off-Phase um 1850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chrittmacherfunktion der Schwerindustrie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Durchbruch der Dampfmaschine als Energieträger ermöglicht Fabriksyste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ntstehung von Großbetrieben mit vertikaler Verflechtung der Produktio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flechtung von Industrie- und Bankenkapita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1692360" y="1628640"/>
            <a:ext cx="1942920" cy="720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1989000"/>
            <a:ext cx="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076360" y="1773360"/>
            <a:ext cx="2374920" cy="576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84720" y="2565360"/>
            <a:ext cx="71928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1763640" y="2565360"/>
            <a:ext cx="115272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268360" y="2781360"/>
            <a:ext cx="719280" cy="287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02E-49A1-48B4-A980-C1C15B1BFE8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D3386-844B-4149-A9BE-EA520B4093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alisierung in Deutsch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1197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Take-off-Phase ab 1850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eitbranche Schwer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187280" y="2708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In-Fahrt“-Phase ab 1871: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eitbranche Maschinenbau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422100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d62"/>
                </a:solidFill>
                <a:latin typeface="Tahoma"/>
              </a:rPr>
              <a:t>Hochindustrialisierung ab 1885: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d62"/>
                </a:solidFill>
                <a:latin typeface="Tahoma"/>
              </a:rPr>
              <a:t>Leitbranachen Elektrotechnik, Chemie, Nachrichtentechnik, Feinmechanik, Motorenbau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1844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342900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823-1080-466C-AFF7-6CEE6B1A78F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4D2D9-5387-45E8-BAFE-C3E4F241A7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Gesellschaftliche Strukturveränderunge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90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Bürger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804000" y="90792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6659640" y="907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Bauer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476360" y="12682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Gewerbefrei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6372360" y="12682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auernbefrei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1547640" y="1844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reie Berufs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184464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de der Heiratsbeschrän-kungen/Geburtenzuwach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637000"/>
            <a:ext cx="27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rühindustrielle Fabrik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16360" y="26370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rbeitslose Handwerker, Gesellen, Lehrlin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7893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Gewerbeschulen, Aus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2916360" y="378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andwerksproletaria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51577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pezialis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3348000" y="5157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acharbeit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588000" y="3860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andproletaria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659640" y="450864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andflu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6516720" y="515772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Ungelernte Arbeit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2268360" y="1557360"/>
            <a:ext cx="0" cy="287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115640" y="2133720"/>
            <a:ext cx="1152360" cy="503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340000" y="2133720"/>
            <a:ext cx="1584360" cy="503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2997360"/>
            <a:ext cx="0" cy="718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4149720"/>
            <a:ext cx="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3213000"/>
            <a:ext cx="0" cy="576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3851280" y="4149720"/>
            <a:ext cx="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7164360" y="1628640"/>
            <a:ext cx="0" cy="28764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7164360" y="2492280"/>
            <a:ext cx="0" cy="1368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4221000"/>
            <a:ext cx="0" cy="360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4869000"/>
            <a:ext cx="0" cy="288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580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ohnarbeiter in der Fabrik als dem zentralen Ort der gesellschaftlichen Arbeit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187280" y="5516640"/>
            <a:ext cx="2448000" cy="360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851280" y="5445000"/>
            <a:ext cx="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66920" y="5445000"/>
            <a:ext cx="309708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B58-8D2D-4BA4-A39F-8D9CDD852D5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09BB4-58FC-40A4-9FD4-4CFBB9B89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Die Arbeiterschaft zur Zeit der Industrialisierung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268280"/>
            <a:ext cx="313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Arbeitsbeding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igorose Disziplinierung am Arbeitspla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Überlange Arbeitszei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ehlende Sicherheitsvorkeh-rungen in den Fabri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Ungesunde Arbeitsräum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Lohn am/unter dem Existenzminimu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Kein Kündigungsschu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rauen- und Kinder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Verschärfung der Konkurrenz durch ständiges Überangebot an Arbeitskräf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bhängigkeit der Arbeit von der Konjunktu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1268280"/>
            <a:ext cx="295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Lebensbeding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eben in Elendsquartie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Mangelnde Hygie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breitung von Krankheiten und Seuch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ohe Sterblichkeits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lucht in Alkoho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uflösung der traditionellen Familienstruktu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de Unterrichtung und Ausbildung der Kind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dentitätsverlu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6084720" y="1268280"/>
            <a:ext cx="2808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Soziale und rechtliche Stellung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dividuelle Arbeitsverträ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treikverbo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Koalitionsverbo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olitische Rechtlos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516640"/>
            <a:ext cx="30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Warencharakter der 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humane, entfremdete 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3059280" y="551664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bwesenheit jeder sozialen Sicher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551664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oziale und politische Deklassi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a3904"/>
                </a:solidFill>
                <a:latin typeface="Tahoma"/>
              </a:rPr>
              <a:t>SOZIALE FRAGE      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1523880" y="5257800"/>
            <a:ext cx="0" cy="304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4419720"/>
            <a:ext cx="0" cy="1143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2895480"/>
            <a:ext cx="0" cy="2590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6095880"/>
            <a:ext cx="2667240" cy="2286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6019920"/>
            <a:ext cx="0" cy="3045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343040" y="6095880"/>
            <a:ext cx="2590920" cy="2286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095-FA8E-49BC-888D-672169C1809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3B7AD-A9DD-4AF7-86C7-4AA85D56BC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aktoren der Industriellen Revolution in England Die Agrarrevolu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8100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Einhegungen (Acker -&gt; Weide, Aufteilung der Allmende, Flurbereinig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844640"/>
            <a:ext cx="41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Landkonzentration -&gt; Expansion des Großgrundbesitz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637000"/>
            <a:ext cx="42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Intensivierung des Anbau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Produktionssteigerung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(Fruchtwechselwirtschaft, Bodenmelioration, Stallviehhaltung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93372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Steigerung der landwirtschaftlichen Gewinne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Reinvestitionen, Anlage im Gewerb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869000"/>
            <a:ext cx="43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Kapitalisierung der Landwirtschaft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Landwirtschaft als Kapitalanl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Unterstützung durch Grafschaftsban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021360"/>
            <a:ext cx="42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ich selbst fortsetzendes Wachstu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Arial"/>
              </a:rPr>
              <a:t>Kapitalakkumula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98100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Verelendung der bäuerlichen Bevölk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198900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Abhängigkeit/Abwanderung bisher selbständiger Kleinbauer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306864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ättigung der Nachfr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Verbesserung der Ernäh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4292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Sinken der Sterblichkeitsrate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burtenüberschuß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6453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Arial"/>
              </a:rPr>
              <a:t>Arbeitskräftepotential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155736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1197000"/>
            <a:ext cx="431640" cy="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2349360"/>
            <a:ext cx="0" cy="28764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573360"/>
            <a:ext cx="0" cy="36036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57992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73408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1268280"/>
            <a:ext cx="0" cy="64800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3645000"/>
            <a:ext cx="0" cy="64764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6381720"/>
            <a:ext cx="0" cy="142920"/>
          </a:xfrm>
          <a:prstGeom prst="line">
            <a:avLst/>
          </a:prstGeom>
          <a:ln w="507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941720"/>
            <a:ext cx="0" cy="1440000"/>
          </a:xfrm>
          <a:prstGeom prst="line">
            <a:avLst/>
          </a:prstGeom>
          <a:ln w="507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A1F-32AC-4A0C-988C-AB8C9B86AE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13CA5-0679-4FBE-856A-D3226F1A3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9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Bevölkerungswachstum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burtenüberschuß, niedrige Sterbe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34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Agrarrevolutio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Qualitative und quantitative Steigerung des Nahrungsmittelangebot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06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Geographische Voraussetz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Kanalsystem und Flüsse ermöglichen Warentranspor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roße Rohstoffvorkommen (Kohl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ute klimatische Bedingungen für Schafzucht (Woll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130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Politische Grundla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inheitlicher Binnenmark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Unterordnung der Politik unter die ökonomischen Interessen der Volkswirtschaft: Kriege zur Ausschaltung der Handelskonkurrenten, indirekte Förderung der Eisenindustrie und des Schiffsbau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Vertretung der ökonomisch führenden Schichten im Parlament sichert deren Einfluß auf politische Entschei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igentums- und Rechtssicherheit seit 1689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Monopolstellung als See-, Kolonial- und Handelsma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Import billiger Rohstoffe aus den Kolonien und Kolonien als Absatzmarkt für Expor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770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Gesellschaftsstruktur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ichtengesellschaft mit vertikaler Mobil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Prestige beruht auf wirtschaftlichem Erfolg und 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emeinsame Interessen von Grundbesitzern und Kapitalbesitzer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ADD-667D-4B06-B195-F0850FEBA0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8AE75-517C-4F74-A365-461329F56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65000"/>
            <a:ext cx="896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Calvinistische Erwerbseth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beit = Gottes Wille (Berufspflicht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rfolg und Reichtum zeigen das Auserwähltsein (Prädestinationslehr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nuss ist Sünd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mit zeugt von mangelndem Arbeitswillen und zeugt von fehlendem Auserwähltsei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=&gt; Legitimation des Profitdenke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78136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Wirtschaftsliberalismus (kapitalistische Wirtschaftsideologie)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beitsteilung und Spezialisierung begünstigen Produktiv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Profitorientierung: Ziel hoher Gewinne und Kapitalvermehrung durch Reinvesti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Banken als Faktor des Kapitaltransfer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Volkswirtschaft prosperiert aufgrund des individuellen Profitstrebe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Keine Einmischung des Staates in die Wirt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Keine Im- und Exportzölle (Freihandel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Beschränkung des Staates auf nicht profitable Bereiche (Verteidigung, Infrastruktur, Justiz, Bildung, Gesundheit)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516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Bildung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Umsetzung naturwissenschaftlicher Forschung durch Gewerb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nelle Übernahme ausländischer Methoden und Innova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Erzeugen Erfindungen und Unternehmergei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lüsselerfindung Dampf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A5E-D676-492F-A25B-EDFCDC59897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6643-858D-4F53-819A-93D437ED70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1970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Calvinistische Erwerbsethik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645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Wirtschaftsliberalismus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877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Bildung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084720" y="7650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Bevölkerungswachstum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084720" y="19890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Agrarrevolu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2130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Geographische Voraussetzung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58053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Politische Grundlag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58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Gesellschaftsstruktur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134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Arial"/>
              </a:rPr>
              <a:t>Arbeitskräftepotential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220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d642"/>
                </a:solidFill>
                <a:latin typeface="Arial"/>
              </a:rPr>
              <a:t>INDUSTRIELLE REVOLU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3500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Arial"/>
              </a:rPr>
              <a:t>Kapitalakkumula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1125360"/>
            <a:ext cx="0" cy="86364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08720" y="2421000"/>
            <a:ext cx="0" cy="792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308720" y="1125000"/>
            <a:ext cx="0" cy="7909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844640"/>
            <a:ext cx="0" cy="1800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1280" y="4149720"/>
            <a:ext cx="0" cy="172728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6021360"/>
            <a:ext cx="208908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971640" y="6237360"/>
            <a:ext cx="201600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6021360"/>
            <a:ext cx="43308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547280" y="4149720"/>
            <a:ext cx="2087640" cy="172728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268360" y="4076640"/>
            <a:ext cx="4175280" cy="17287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4005360"/>
            <a:ext cx="4175280" cy="17287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427280" y="981000"/>
            <a:ext cx="1657080" cy="36036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27280" y="1700280"/>
            <a:ext cx="1584360" cy="5047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500720" y="2349360"/>
            <a:ext cx="1511280" cy="11509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571640" y="3860640"/>
            <a:ext cx="2376360" cy="19447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56000" y="3715920"/>
            <a:ext cx="576000" cy="7308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476360" y="1557360"/>
            <a:ext cx="1871640" cy="201600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1700280"/>
            <a:ext cx="0" cy="576360"/>
          </a:xfrm>
          <a:prstGeom prst="line">
            <a:avLst/>
          </a:prstGeom>
          <a:ln w="38160">
            <a:solidFill>
              <a:srgbClr val="2ed6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995640" y="2781000"/>
            <a:ext cx="0" cy="718920"/>
          </a:xfrm>
          <a:prstGeom prst="line">
            <a:avLst/>
          </a:prstGeom>
          <a:ln w="38160">
            <a:solidFill>
              <a:srgbClr val="2ed6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72E-036C-4CE8-A57B-D51F51BB0CB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672FB-B5BA-4E94-9064-F1AE89230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ellen Revolution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9228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33 verbesserte Web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842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9 Spinn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6084720" y="69228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35 Koks aus Steinkohl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1484280"/>
            <a:ext cx="26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9 Dampf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141300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6 Erzverhüttung mit Kohl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6084720" y="213372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1784 Puddelverfah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9973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Arbeitsmaschin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29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Kraftmaschin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285264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Verbesserung der Produktionsverfahr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3933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85 Spinnmaschine mit Dampfantrieb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429264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807 Dampfschiff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814 Lokomo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445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Durchbruch der industriellen Produktionsweis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mechanisierte, arbeitsteilige Produktion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6453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Sprunghaft ansteigende Produktionsziffer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3284640"/>
            <a:ext cx="1152720" cy="6490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84360" y="3284640"/>
            <a:ext cx="1224000" cy="6490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3284640"/>
            <a:ext cx="165744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796000" y="3429000"/>
            <a:ext cx="1224000" cy="86364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494172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6093000"/>
            <a:ext cx="4334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00-3DDA-4F64-AE4F-954A9AEB261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6740-2E32-4F16-A890-6EBAF04EAA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ellen Revolution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924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Textil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2708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Arial"/>
              </a:rPr>
              <a:t>Nachfrage</a:t>
            </a:r>
            <a:endParaRPr b="0" lang="en-US" sz="1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2781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Schwer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Produktionsgüter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465300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Eisenbahn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Transportmittel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3141720"/>
            <a:ext cx="396216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835280" y="3284640"/>
            <a:ext cx="4249440" cy="1512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B97-F9CF-4960-A3D7-68C999C21ED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E77B7-D993-42E7-961E-420D6C4E15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Die deutsche Ausgangssituation um 1800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620640"/>
            <a:ext cx="87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Politische Faktor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artikularismus -&gt; kleine Märkte, Handelsbeschränkungen durch zahlreiche Zollgrenz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bsolutismus -&gt; obrigkeitsstaatliches Denken, Fehlen eines selbstbewußten und wirtschaftlich starken Bürgertum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ufgeklärter Absolutismus (Preußen) -&gt; Vermeiden von innovationsfördernden und revolutionären Spann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2421000"/>
            <a:ext cx="871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Feudale Ständegesellschaft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utsuntertänigkeit der Bauern (v.a. östlich der Elb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Zunftbin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rivilegien der ersten beiden Ständ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roduktionssteigerung erfolgt über die Intensivierung der feudalen Abhängigkei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ehlende Mobilität der Unterta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rstarrung der gesellschaftlichen Struktu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4365720"/>
            <a:ext cx="87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Bildungswes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seitige Ausrichtung der Bildung im herrschaftsstabilisierenden Sin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Mangelnde technische 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novationsunfäh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558972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Mentalität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icherheitsbedürfnis aufgrund von Kriegserfahr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6E5-0934-4214-909D-136A8D0C381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7B3EF-86D3-45DB-B551-20E125D6E2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Die deutsche Ausgangssituation um 1800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119700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Merkantilismus als vorherrschende Wirtschaftspolit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Zollschran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rotektionismus (Ein- und Ausfuhrverbote zur Stärkung der Wirtschaft der jeweiligen Kleinstaa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oher Staatsanteil bei der Verwendung des Bruttosozialprodukts für repräsentative Zweck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 von Eigeninitia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321300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Geographische Lage/Handel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chwach entwickeltes Verkehrsne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ehinderung der Ost-West-Verbindungen durch Mittelgebir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eehandelsnachteile (Wattenmeer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 kolonialer Impor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Zwischenhandelsabhäng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CC0-EB74-44AE-89B3-CC6540AAED9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5430F-F648-44C8-8E12-2A9964B649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8:02Z</dcterms:created>
  <dc:creator>D.Ammermann</dc:creator>
  <dc:description/>
  <dc:language>en-US</dc:language>
  <cp:lastModifiedBy> </cp:lastModifiedBy>
  <dcterms:modified xsi:type="dcterms:W3CDTF">2008-02-19T19:42:37Z</dcterms:modified>
  <cp:revision>14</cp:revision>
  <dc:subject/>
  <dc:title>Industrialisier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71031</vt:lpwstr>
  </property>
</Properties>
</file>