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B53E-CA8A-4118-96C5-66183AFE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04C-7268-4DE0-96CB-F68F9EFF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39F-31CE-4C1C-B340-3049213D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F72-1EDD-4F06-AC65-693949E1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E7E-FE93-4E6C-9212-529A0700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845-E29D-4C13-86DA-2839A0E7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FE9-63C6-4A66-A6BD-EA9E198F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17B-90A2-4191-B41B-BD69A620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E81-4956-44E2-BBBC-194C2147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7DC-79D4-4D51-86E5-6F729842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19B-1F5D-4277-9997-28268C2A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D78-31A6-4874-8D18-3BA66636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7AA0-6154-4F6D-AEBE-D50FFD956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sozialistische Wirtschafts- und Sozialpolit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nhaltsplatzhalter 3" descr="800px-Mefo-Wechsel.png"/>
          <p:cNvPicPr/>
          <p:nvPr/>
        </p:nvPicPr>
        <p:blipFill>
          <a:blip r:embed="rId1"/>
          <a:stretch/>
        </p:blipFill>
        <p:spPr>
          <a:xfrm>
            <a:off x="0" y="214200"/>
            <a:ext cx="92170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38 wurden die ersten Wechsel fäll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nten nicht bezahlt we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acht trat zurü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reinlagen in Reichsschuldverschreibungen angele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rer wurden Gläubiger des Sta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chsbank hatte keine Kontrolle me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undlage für Inflation war gele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arkiewirtscha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richtung des Staates auf vollkommene Autark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öllige Unabhängigkeit von Impor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adesicherhe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cherstellung der 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kennbar im „neuen Plan“ und „Vierjahresplan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 „neue Plan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gative dt. Außenhandelsbilan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nser Import von Roh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el: Unabhängigkeit von überseeischen Impor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laterale Verträge mit Bulgarien, Ungar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mgehung des Weltmark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rtschaftliche und politische Abhängigkeit der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Handelsbilan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Rohstof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ündung von Forschungsunterneh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uch, Rohstoffe zu erset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ispie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hgummi durch synthetischen Kautsch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döl durch synthetische Treibstof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umwolle durch Kunstse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äßiger Erfol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 Vierjahres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tschaft u. Armee innerhalb von 4 Jahren kriegsber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ohstoffbegrenzung für private Wirt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ktiver Eingriff in Wirt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schränkung der Konsumgüterindus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ründung Reichswerke Hermann Gö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taatliche Kommandowirt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tarktiebestrebungen konnten nicht erreicht we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satzwirtschaft setzte auf Massenartik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chwertige Produkte durch minderwertige ersetz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rhandene Engpässe konnten erst ab 1940 beseitigt we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arpolit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kermann“ Symbolfig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tung der Bauern“ Schwerpun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lle rassischer Erneuerung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scher Kern“ des Vol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lass der Hälfte der Schul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absetzung der Zin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eichschaltung der landw. Verbä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wangsmitgliedschaft im Reichsnähr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33 Reichserbhofgese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veräußerlichkeit des Hofes bis 125ha Größ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ugleich nicht belastb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ine wirksamen und zukunftsweisenden Investitionen mögl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ine Verbesserung des Einkomm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uch, Landflucht durch billige Arbeitskräfte zu kompensi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ppelung an Vierjahres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war Erhöhung des Selbstversorgungsanteils, jedoch Defizite bei Fetten u. Futtermittel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 Mittelst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wirklichung des Ständestaates fand nicht sta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telstand profitierte nur von ABM u. Regelungen zum Schutz des Einzelhan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ine Umstrukturierungen zu Lasten des Großkapi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tärkung der bekämpften Probl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lä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ziehungen zur Indus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rbeit und Brot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traßen des Führers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efo- Wech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tarkiewirt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 „neue Plan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roblem Rohstof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werkschaf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error der SA gegen Gewerkschaften (ab März 19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urs des ADGB auf Anpass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orschlag der Mitarb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lehnung durch NSD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rbeiter sollten für NS gewonnen we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hebung des 1. Mai zum Feiert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.Mai 1933: Verhaftung von Gewerkschafts-funktionären und Verbot der Gewerkschaf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satz für Gewerkschaften: D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el: Bildung einer Gemeinschaft ohne Klassenkampfgedan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F staatliches Lenkungs- u. Kontrollor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e der Tarifautonomie und der betrieblichen Mitbestimm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nung der Betriebe nach dem Führerprinz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nführung des Arbeitsbuches 19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beiter akzeptierten die Einschränkungen aufgrund von Lohnzuwachs und Vollbeschäftig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iegswirtscha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ine Vorbereitung auf langen Kri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itzkriegstrate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oberungen sollen Ernährung der Bevölkerung sichern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 Rohstoffsicherung dienen (z.B. Erzvorkommen Dänemark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beitskräfte aus den Niederlanden bezie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ch Rückschlag in der UdSS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e Kriegswirtsch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ntralisierung und Rationalisie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egsgefangene als Zwangsarbe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lechte Versorgung, Massenster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werbung von sowjetischen zivilen Arbeitskräf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harbeiterman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hstoffman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S- Wirtschaft konnte auf KZ zurückgrei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e Rolle der Fr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u untergeord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tel zum Zweck“ – Erhaltung der Ra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nzipation wurde zurückgenom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terkult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zeichnungen für Kinderreich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nschränkung der Erwerbstätigk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in Stu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 Ledige wurden dienstverpflicht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ätigkeit auf Haushalt konzentri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aft durch Fre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erorganisation der D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izeit der Deutschen gestalten, überwachen u. gleichschal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el: „Vervollkommnung und Veredelung des deutschen Menschen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haltung des Arbeitsfriedens durch Befriedung der Arbeiter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k sollte motiviert und gesund we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ermürbung durch Arbeit entgegenwirken durch Erho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ht zur Langeweile, sondern zur Wiedererlangung der verlorenen Kräf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höhung der Urlaubsz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ätigkeiten/Projek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aterbesu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iseveranstalt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dF- Wa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reuzfahrtschif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eebad Prora (Rü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AF Mitglieder automatisch Mitglieder in K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0,50 Reichsmark Mitgliedsbeitr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uptsächlich ehrenamtliche Mitarbe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hoffte Selbstfinanzierung durch Projekte gelang n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rtschaftliche und soziale Maßnahmen im Vergleich zur Ideologi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richtung auf Landgewi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rschlagung von Klassen nicht vollz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arkiegedanke/Unabhängigkeit der Ra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ine Aufhebung der sozialen Unterschi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nung der Betriebe nach Führerprinz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 Vierjahres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arpolit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tel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werkschaf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egswirt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lle der Fr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aft durch Fre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ßnahmen und Ide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äne des NSDAP Parteiprogramms von 192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eder Bürger soll arbeiten (geistig od. körperli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schaffung der Arbeitslosenunterstütz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gewinn für Nahrungsversorg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rechung der Zinsknecht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staatlichung von Tru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winnbeteiligung bei Großbetrie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fsplittung der Warenhä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teignung zum gemeinnützigen Zw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richtung von Ständekamm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nnzeichnung der Forderungen als unverbindlich (Beruhigu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eichsetzung von Sozialismus u. Vaterlandslie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meinnutz geht vor Eigennutz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ch der Machtübernah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fgabe der Sozialisierungsbestreb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fgabe der Förderung des Mittelstan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terordnung der Wirtschaft unter Polit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fängliche Pläne nur propagandistischer Nat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in schlüssiges Gesamtkonze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ziehungen zwischen der NSDAP und der Industr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 Anfang bereits teilweise Unterstützung durch Industrielle (Bsp. Thyss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 1930 regelmäßige Zuwend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sozialismus für die Industrie eine von mehreren möglichen Alternati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rteile durch Kontakt in führende Wirtschaftskre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SDAP war weder politisch noch finanziell von der Industrie abhäng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beit und Brot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chtigstes Wahlversprechen Hit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ünstige Bedingung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tschaftskrise klingt 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knüpfung an von Schleicher geschaffene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nerhalb von 4 Jahren fast Vollbeschäftig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ßer propagandistischer Gewi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ßen des Führers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Investition in zivile Infrastrukturprojek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Verwirklichung des Autobahn- Plans der Weimarer Republi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urde als Erfolg Hitlers verkau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Finanzierung durch ¾ über Arbeitslosenversicheru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Bis 1939 2200 von 9000 km fertiggestell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Immenser Beitrag zum Abbau der Arbeitslosigkeit, jedoch unproduktive Arbeitswe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rtschaftlicher Erfolg durch Konjunkturprogramme künstlich herbeigefüh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efo- Wech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inanzierungsprobl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ichsbankpräsident weigert sich Geldmenge zu erhö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chaffung der Scheinwährung Mefo- Wech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ründung einer Scheinfirma „Metallurgische Forschungsgesellschaft m.b.H.“ durch vier Großkonzer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4:18:04Z</dcterms:created>
  <dc:creator>Moritz Hemsen</dc:creator>
  <dc:description/>
  <dc:language>en-US</dc:language>
  <cp:lastModifiedBy> </cp:lastModifiedBy>
  <dcterms:modified xsi:type="dcterms:W3CDTF">2009-02-04T17:55:56Z</dcterms:modified>
  <cp:revision>22</cp:revision>
  <dc:subject/>
  <dc:title>Nationalsozialistische Wirtschafts- und Sozialpolitik</dc:title>
</cp:coreProperties>
</file>