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CCC-BA8D-42F8-AE01-A1F32062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F22-9815-4014-82C1-E8D69B0E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7FF4-4177-48D4-8806-8E6FA1F9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EA5-F04C-4DB1-BA49-1A379DCC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E9F-0FB0-47F9-AEE9-E69EF8BB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B9D-4DB9-4BDD-B2A8-FFCE926D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70C-4482-4AC4-80A8-5EA6E047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E0A-FAEE-483B-BC8E-BD4820C3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A93-9AE4-48FA-AE3C-6AE88616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6E6-F34E-4FED-BE73-F6368419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EE33-0DE2-47E8-8B08-E530854A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2048-083A-4B72-A2A4-46E5F612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7AA2-990A-491A-AEB2-7687A83EA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ionalsozialistische Wirtschafts- und Sozialpolit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nhaltsplatzhalter 3" descr="800px-Mefo-Wechsel.png"/>
          <p:cNvPicPr/>
          <p:nvPr/>
        </p:nvPicPr>
        <p:blipFill>
          <a:blip r:embed="rId1"/>
          <a:stretch/>
        </p:blipFill>
        <p:spPr>
          <a:xfrm>
            <a:off x="0" y="214200"/>
            <a:ext cx="92170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38 wurden die ersten Wechsel fäll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nten nicht bezahlt we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acht trat zurü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reinlagen in Reichsschuldverschreibungen angeleg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rer wurden Gläubiger des Sta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ichsbank hatte keine Kontrolle me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undlage für Inflation war geleg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tarkiewirtscha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srichtung des Staates auf vollkommene Autark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i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öllige Unabhängigkeit von Impor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adesicherhe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cherstellung der Ernähr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kennbar im „neuen Plan“ und „Vierjahresplan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 „neue Plan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gative dt. Außenhandelsbilan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enser Import von Rohstoff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iel: Unabhängigkeit von überseeischen Impor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laterale Verträge mit Bulgarien, Ungar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mgehung des Weltmark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rtschaftliche und politische Abhängigkeit der Part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itive Handelsbilan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Rohstof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ündung von Forschungsunterneh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such, Rohstoffe zu erset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ispie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hgummi durch synthetischen Kautschu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döl durch synthetische Treibstof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umwolle durch Kunstse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äßiger Erfol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 Vierjahres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tschaft u. Armee innerhalb von 4 Jahren kriegsber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Rohstoffbegrenzung für private Wirtsch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ktiver Eingriff in Wirtsch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inschränkung der Konsumgüterindust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ründung Reichswerke Hermann Gö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taatliche Kommandowirtsch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utarktiebestrebungen konnten nicht erreicht we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satzwirtschaft setzte auf Massenartik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chwertige Produkte durch minderwertige ersetz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rhandene Engpässe konnten erst ab 1940 beseitigt we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rarpolit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4997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kermann“ Symbolfig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tung der Bauern“ Schwerpun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lle rassischer Erneuerung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scher Kern“ des Volk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lass der Hälfte der Schul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absetzung der Zin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eichschaltung der landw. Verbä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wangsmitgliedschaft im Reichsnährst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33 Reichserbhofgese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veräußerlichkeit des Hofes bis 125ha Größ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ugleich nicht belastb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ine wirksamen und zukunftsweisenden Investitionen mögl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ine Verbesserung des Einkomm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such, Landflucht durch billige Arbeitskräfte zu kompensi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ppelung an Vierjahres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war Erhöhung des Selbstversorgungsanteils, jedoch Defizite bei Fetten u. Futtermittel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 Mittelst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wirklichung des Ständestaates fand nicht sta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telstand profitierte nur von ABM u. Regelungen zum Schutz des Einzelhan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ine Umstrukturierungen zu Lasten des Großkapit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stärkung der bekämpften Probl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a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lä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ziehungen zur Indust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rbeit und Brot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traßen des Führers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efo- Wechs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utarkiewirtsch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r „neue Plan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roblem Rohstof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werkschaf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error der SA gegen Gewerkschaften (ab März 193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urs des ADGB auf Anpass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orschlag der Mitarb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lehnung durch NSD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rbeiter sollten für NS gewonnen we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rhebung des 1. Mai zum Feiert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2.Mai 1933: Verhaftung von Gewerkschafts-funktionären und Verbot der Gewerkschaf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satz für Gewerkschaften: D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iel: Bildung einer Gemeinschaft ohne Klassenkampfgedan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F staatliches Lenkungs- u. Kontrollorg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e der Tarifautonomie und der betrieblichen Mitbestimm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dnung der Betriebe nach dem Führerprinz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inführung des Arbeitsbuches 193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beiter akzeptierten die Einschränkungen aufgrund von Lohnzuwachs und Vollbeschäftig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riegswirtscha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ine Vorbereitung auf langen Krie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itzkriegstrate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oberungen sollen Ernährung der Bevölkerung sichern 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 Rohstoffsicherung dienen (z.B. Erzvorkommen Dänemark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beitskräfte aus den Niederlanden bezie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ch Rückschlag in der UdSS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e Kriegswirtscha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entralisierung und Rationalisier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egsgefangene als Zwangsarbe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lechte Versorgung, Massenster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werbung von sowjetischen zivilen Arbeitskräf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harbeiterman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hstoffman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S- Wirtschaft konnte auf KZ zurückgreif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e Rolle der Fr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u untergeord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tel zum Zweck“ – Erhaltung der Ras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nzipation wurde zurückgenom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tterkult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szeichnungen für Kinderreich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inschränkung der Erwerbstätigk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in Stud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r Ledige wurden dienstverpflicht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ätigkeit auf Haushalt konzentri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raft durch Fre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terorganisation der D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izeit der Deutschen gestalten, überwachen u. gleichschal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iel: „Vervollkommnung und Veredelung des deutschen Menschen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haltung des Arbeitsfriedens durch Befriedung der Arbeiter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k sollte motiviert und gesund we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Zermürbung durch Arbeit entgegenwirken durch Erhol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icht zur Langeweile, sondern zur Wiedererlangung der verlorenen Kräf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rhöhung der Urlaubsz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ätigkeiten/Projek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heaterbesu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iseveranstaltu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dF- Wa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reuzfahrtschif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eebad Prora (Rüg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AF Mitglieder automatisch Mitglieder in K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0,50 Reichsmark Mitgliedsbeitr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auptsächlich ehrenamtliche Mitarbe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rhoffte Selbstfinanzierung durch Projekte gelang ni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irtschaftliche und soziale Maßnahmen im Vergleich zur Ideologi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srichtung auf Landgewin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rschlagung von Klassen nicht vollz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arkiegedanke/Unabhängigkeit der Ras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ine Aufhebung der sozialen Unterschie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dnung der Betriebe nach Führerprinz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 Vierjahres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rarpolit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telst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werkschaf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egswirtsch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lle der Fr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aft durch Fre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ßnahmen und Ideolo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äne des NSDAP Parteiprogramms von 1920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eder Bürger soll arbeiten (geistig od. körperli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schaffung der Arbeitslosenunterstütz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ndgewinn für Nahrungsversorg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rechung der Zinsknechtsch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erstaatlichung von Tru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ewinnbeteiligung bei Großbetrie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ufsplittung der Warenhä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nteignung zum gemeinnützigen Zw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inrichtung von Ständekamm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nnzeichnung der Forderungen als unverbindlich (Beruhigu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eichsetzung von Sozialismus u. Vaterlandslie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meinnutz geht vor Eigennutz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ch der Machtübernah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fgabe der Sozialisierungsbestrebu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fgabe der Förderung des Mittelstan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terordnung der Wirtschaft unter Politi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fängliche Pläne nur propagandistischer Nat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in schlüssiges Gesamtkonze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ziehungen zwischen der NSDAP und der Industr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 Anfang bereits teilweise Unterstützung durch Industrielle (Bsp. Thyss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 1930 regelmäßige Zuwend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sozialismus für die Industrie eine von mehreren möglichen Alternati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rteile durch Kontakt in führende Wirtschaftskre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SDAP war weder politisch noch finanziell von der Industrie abhäng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beit und Brot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chtigstes Wahlversprechen Hit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ünstige Bedingung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tschaftskrise klingt 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knüpfung an von Schleicher geschaffene Program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nerhalb von 4 Jahren fast Vollbeschäftig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ßer propagandistischer Gewin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ßen des Führers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Investition in zivile Infrastrukturprojek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Verwirklichung des Autobahn- Plans der Weimarer Republi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urde als Erfolg Hitlers verkau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Finanzierung durch ¾ über Arbeitslosenversicheru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Bis 1939 2200 von 9000 km fertiggestell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Immenser Beitrag zum Abbau der Arbeitslosigkeit, jedoch unproduktive Arbeitswei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irtschaftlicher Erfolg durch Konjunkturprogramme künstlich herbeigefüh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Mefo- Wechs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inanzierungsprobl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Reichsbankpräsident weigert sich Geldmenge zu erhö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chaffung der Scheinwährung Mefo- Wechs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ründung einer Scheinfirma „Metallurgische Forschungsgesellschaft m.b.H.“ durch vier Großkonzer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4:18:04Z</dcterms:created>
  <dc:creator>Moritz Hemsen</dc:creator>
  <dc:description/>
  <dc:language>en-US</dc:language>
  <cp:lastModifiedBy> </cp:lastModifiedBy>
  <dcterms:modified xsi:type="dcterms:W3CDTF">2009-02-04T17:55:56Z</dcterms:modified>
  <cp:revision>22</cp:revision>
  <dc:subject/>
  <dc:title>Nationalsozialistische Wirtschafts- und Sozialpolitik</dc:title>
</cp:coreProperties>
</file>